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  <p:sldId id="289" r:id="rId48"/>
    <p:sldId id="290" r:id="rId49"/>
    <p:sldId id="291" r:id="rId50"/>
    <p:sldId id="292" r:id="rId51"/>
    <p:sldId id="293" r:id="rId52"/>
    <p:sldId id="294" r:id="rId53"/>
    <p:sldId id="295" r:id="rId54"/>
    <p:sldId id="296" r:id="rId55"/>
    <p:sldId id="297" r:id="rId56"/>
  </p:sldIdLst>
  <p:sldSz cx="9144000" cy="6858000"/>
  <p:notesSz cx="9294813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slide" Target="slides/slide34.xml"/><Relationship Id="rId49" Type="http://schemas.openxmlformats.org/officeDocument/2006/relationships/slide" Target="slides/slide35.xml"/><Relationship Id="rId50" Type="http://schemas.openxmlformats.org/officeDocument/2006/relationships/slide" Target="slides/slide36.xml"/><Relationship Id="rId51" Type="http://schemas.openxmlformats.org/officeDocument/2006/relationships/slide" Target="slides/slide37.xml"/><Relationship Id="rId52" Type="http://schemas.openxmlformats.org/officeDocument/2006/relationships/slide" Target="slides/slide38.xml"/><Relationship Id="rId53" Type="http://schemas.openxmlformats.org/officeDocument/2006/relationships/slide" Target="slides/slide39.xml"/><Relationship Id="rId54" Type="http://schemas.openxmlformats.org/officeDocument/2006/relationships/slide" Target="slides/slide40.xml"/><Relationship Id="rId55" Type="http://schemas.openxmlformats.org/officeDocument/2006/relationships/slide" Target="slides/slide41.xml"/><Relationship Id="rId56" Type="http://schemas.openxmlformats.org/officeDocument/2006/relationships/slide" Target="slides/slide4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"/>
          <p:cNvSpPr/>
          <p:nvPr/>
        </p:nvSpPr>
        <p:spPr>
          <a:xfrm>
            <a:off x="0" y="0"/>
            <a:ext cx="92952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4027320" cy="33804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Courier New"/>
              </a:rPr>
              <a:t>Service-Oriented Computing: Semantics, Processes, Agen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 type="dt" idx="37"/>
          </p:nvPr>
        </p:nvSpPr>
        <p:spPr>
          <a:xfrm>
            <a:off x="5268600" y="-360"/>
            <a:ext cx="4027320" cy="33804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  <a:defRPr b="0" i="1" lang="en-US" sz="1000" spc="-1" strike="noStrike">
                <a:solidFill>
                  <a:srgbClr val="000000"/>
                </a:solidFill>
                <a:latin typeface="Courier Ne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Courier New"/>
              </a:rPr>
              <a:t>August 20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 type="sldImg"/>
          </p:nvPr>
        </p:nvSpPr>
        <p:spPr>
          <a:xfrm>
            <a:off x="2932200" y="510840"/>
            <a:ext cx="3433680" cy="2575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 type="body"/>
          </p:nvPr>
        </p:nvSpPr>
        <p:spPr>
          <a:xfrm>
            <a:off x="1238400" y="3260520"/>
            <a:ext cx="6819840" cy="309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 type="ftr" idx="38"/>
          </p:nvPr>
        </p:nvSpPr>
        <p:spPr>
          <a:xfrm>
            <a:off x="-360" y="6519600"/>
            <a:ext cx="4027320" cy="33804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  <a:defRPr b="0" i="1" lang="en-US" sz="1000" spc="-1" strike="noStrike">
                <a:solidFill>
                  <a:srgbClr val="000000"/>
                </a:solidFill>
                <a:latin typeface="Courier Ne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Courier New"/>
              </a:rPr>
              <a:t>© Singh &amp; Huh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PlaceHolder 6"/>
          <p:cNvSpPr>
            <a:spLocks noGrp="1"/>
          </p:cNvSpPr>
          <p:nvPr>
            <p:ph type="sldNum" idx="39"/>
          </p:nvPr>
        </p:nvSpPr>
        <p:spPr>
          <a:xfrm>
            <a:off x="5268600" y="6519600"/>
            <a:ext cx="4027320" cy="33804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  <a:defRPr b="0" i="1" lang="en-US" sz="1000" spc="-1" strike="noStrike">
                <a:solidFill>
                  <a:srgbClr val="000000"/>
                </a:solidFill>
                <a:latin typeface="Courier Ne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fld id="{B8462DF6-CBE3-468C-8B0B-9B114224F35F}" type="slidenum">
              <a:rPr b="0" i="1" lang="en-US" sz="1000" spc="-1" strike="noStrike">
                <a:solidFill>
                  <a:srgbClr val="000000"/>
                </a:solidFill>
                <a:latin typeface="Courier Ne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Rectangle 2"/>
          <p:cNvSpPr/>
          <p:nvPr/>
        </p:nvSpPr>
        <p:spPr>
          <a:xfrm>
            <a:off x="0" y="0"/>
            <a:ext cx="40273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Courier New"/>
              </a:rPr>
              <a:t>Service-Oriented Computing: Semantics, Processes, Agent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4" name="Rectangle 3"/>
          <p:cNvSpPr/>
          <p:nvPr/>
        </p:nvSpPr>
        <p:spPr>
          <a:xfrm>
            <a:off x="5268960" y="0"/>
            <a:ext cx="40273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Courier New"/>
              </a:rPr>
              <a:t>August 2004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5" name="Rectangle 6"/>
          <p:cNvSpPr/>
          <p:nvPr/>
        </p:nvSpPr>
        <p:spPr>
          <a:xfrm>
            <a:off x="0" y="6519960"/>
            <a:ext cx="40273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Courier New"/>
              </a:rPr>
              <a:t>© Singh &amp; Huh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6" name="Rectangle 7"/>
          <p:cNvSpPr/>
          <p:nvPr/>
        </p:nvSpPr>
        <p:spPr>
          <a:xfrm>
            <a:off x="5268960" y="6519960"/>
            <a:ext cx="40273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fld id="{F044EAF9-B339-40FA-A33F-0791F045C69C}" type="slidenum">
              <a:rPr b="0" i="1" lang="en-US" sz="1000" spc="-1" strike="noStrike">
                <a:solidFill>
                  <a:srgbClr val="000000"/>
                </a:solidFill>
                <a:latin typeface="Courier Ne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7" name="PlaceHolder 1"/>
          <p:cNvSpPr>
            <a:spLocks noGrp="1"/>
          </p:cNvSpPr>
          <p:nvPr>
            <p:ph type="sldImg"/>
          </p:nvPr>
        </p:nvSpPr>
        <p:spPr>
          <a:xfrm>
            <a:off x="2932200" y="511200"/>
            <a:ext cx="3433680" cy="2575080"/>
          </a:xfrm>
          <a:prstGeom prst="rect">
            <a:avLst/>
          </a:prstGeom>
          <a:ln w="0">
            <a:noFill/>
          </a:ln>
        </p:spPr>
      </p:sp>
      <p:sp>
        <p:nvSpPr>
          <p:cNvPr id="788" name="PlaceHolder 2"/>
          <p:cNvSpPr>
            <a:spLocks noGrp="1"/>
          </p:cNvSpPr>
          <p:nvPr>
            <p:ph type="body"/>
          </p:nvPr>
        </p:nvSpPr>
        <p:spPr>
          <a:xfrm>
            <a:off x="1238400" y="3260520"/>
            <a:ext cx="6819840" cy="30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Rectangle 2"/>
          <p:cNvSpPr/>
          <p:nvPr/>
        </p:nvSpPr>
        <p:spPr>
          <a:xfrm>
            <a:off x="0" y="0"/>
            <a:ext cx="40273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Courier New"/>
              </a:rPr>
              <a:t>Service-Oriented Computing: Semantics, Processes, Agent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0" name="Rectangle 3"/>
          <p:cNvSpPr/>
          <p:nvPr/>
        </p:nvSpPr>
        <p:spPr>
          <a:xfrm>
            <a:off x="5268960" y="0"/>
            <a:ext cx="40273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Courier New"/>
              </a:rPr>
              <a:t>August 2004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1" name="Rectangle 6"/>
          <p:cNvSpPr/>
          <p:nvPr/>
        </p:nvSpPr>
        <p:spPr>
          <a:xfrm>
            <a:off x="0" y="6519960"/>
            <a:ext cx="40273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Courier New"/>
              </a:rPr>
              <a:t>© Singh &amp; Huh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2" name="Rectangle 7"/>
          <p:cNvSpPr/>
          <p:nvPr/>
        </p:nvSpPr>
        <p:spPr>
          <a:xfrm>
            <a:off x="5268960" y="6519960"/>
            <a:ext cx="40273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fld id="{D3E7248D-69D7-4150-BD56-B51EEBEE1B93}" type="slidenum">
              <a:rPr b="0" i="1" lang="en-US" sz="1000" spc="-1" strike="noStrike">
                <a:solidFill>
                  <a:srgbClr val="000000"/>
                </a:solidFill>
                <a:latin typeface="Courier Ne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3" name="PlaceHolder 1"/>
          <p:cNvSpPr>
            <a:spLocks noGrp="1"/>
          </p:cNvSpPr>
          <p:nvPr>
            <p:ph type="sldImg"/>
          </p:nvPr>
        </p:nvSpPr>
        <p:spPr>
          <a:xfrm>
            <a:off x="2932200" y="511200"/>
            <a:ext cx="3433680" cy="2575080"/>
          </a:xfrm>
          <a:prstGeom prst="rect">
            <a:avLst/>
          </a:prstGeom>
          <a:ln w="0">
            <a:noFill/>
          </a:ln>
        </p:spPr>
      </p:sp>
      <p:sp>
        <p:nvSpPr>
          <p:cNvPr id="794" name="PlaceHolder 2"/>
          <p:cNvSpPr>
            <a:spLocks noGrp="1"/>
          </p:cNvSpPr>
          <p:nvPr>
            <p:ph type="body"/>
          </p:nvPr>
        </p:nvSpPr>
        <p:spPr>
          <a:xfrm>
            <a:off x="1238400" y="3260520"/>
            <a:ext cx="6819840" cy="30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178F86-D402-4F35-86CC-03C5BFE5A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1371240"/>
            <a:ext cx="77724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3858120"/>
            <a:ext cx="77724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5A1E8E-21E7-4BB8-88E6-4C9BC0DAC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182600" y="1371240"/>
            <a:ext cx="379260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5165280" y="1371240"/>
            <a:ext cx="379260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0CB4C82-FAFD-4483-81C9-266109A8A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EB3DAA2-70D5-406D-8F17-E06801328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ubTitle"/>
          </p:nvPr>
        </p:nvSpPr>
        <p:spPr>
          <a:xfrm>
            <a:off x="1150560" y="151920"/>
            <a:ext cx="779292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AA3A4CA-3786-4451-A539-DB72E0EEE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1182600" y="1371240"/>
            <a:ext cx="37926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5165280" y="1371240"/>
            <a:ext cx="379260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1182600" y="3858120"/>
            <a:ext cx="37926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F47B873-3DE3-4B02-9E73-10F0FF3FB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1182600" y="1371240"/>
            <a:ext cx="379260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5165280" y="1371240"/>
            <a:ext cx="37926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5165280" y="3858120"/>
            <a:ext cx="37926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458C7AF-1BF3-409C-9676-E012F4F67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1182600" y="1371240"/>
            <a:ext cx="37926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5165280" y="1371240"/>
            <a:ext cx="37926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1182600" y="3858120"/>
            <a:ext cx="77724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A654FEF-6F83-49AE-AF95-3BCB56D43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1182600" y="1371240"/>
            <a:ext cx="77724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1182600" y="3858120"/>
            <a:ext cx="77724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697104F-676F-4678-8286-038E2EA96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1182600" y="1371240"/>
            <a:ext cx="37926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5165280" y="1371240"/>
            <a:ext cx="37926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1182600" y="3858120"/>
            <a:ext cx="37926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5165280" y="3858120"/>
            <a:ext cx="37926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F4A0556-0FC6-4C0F-9885-2CD89B88C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1182600" y="1371240"/>
            <a:ext cx="2502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3810600" y="1371240"/>
            <a:ext cx="2502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438240" y="1371240"/>
            <a:ext cx="2502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1182600" y="3858120"/>
            <a:ext cx="2502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3" name="PlaceHolder 6"/>
          <p:cNvSpPr>
            <a:spLocks noGrp="1"/>
          </p:cNvSpPr>
          <p:nvPr>
            <p:ph/>
          </p:nvPr>
        </p:nvSpPr>
        <p:spPr>
          <a:xfrm>
            <a:off x="3810600" y="3858120"/>
            <a:ext cx="2502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4" name="PlaceHolder 7"/>
          <p:cNvSpPr>
            <a:spLocks noGrp="1"/>
          </p:cNvSpPr>
          <p:nvPr>
            <p:ph/>
          </p:nvPr>
        </p:nvSpPr>
        <p:spPr>
          <a:xfrm>
            <a:off x="6438240" y="3858120"/>
            <a:ext cx="2502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80130C3-A2BC-428B-A9B1-EBD272C15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C7B68C5-34FC-4E80-BD6D-CF1F9495D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1371240"/>
            <a:ext cx="37926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1371240"/>
            <a:ext cx="37926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3858120"/>
            <a:ext cx="37926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3858120"/>
            <a:ext cx="37926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730B58-7D07-4A9A-BCAB-0EAF2B88C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1182600" y="1371240"/>
            <a:ext cx="7772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00702B6-F65D-4576-BADB-35A69E3F2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1182600" y="1371240"/>
            <a:ext cx="777240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7C21AC0-0E4C-44B7-B8CB-F4F4FDC74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1182600" y="1371240"/>
            <a:ext cx="379260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5165280" y="1371240"/>
            <a:ext cx="379260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06710E6-CE4C-4C8C-8E01-BC4CC99C3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99AE889-C3AF-4D27-8581-7429D00E7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1150560" y="151920"/>
            <a:ext cx="779292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027C975-4D43-45CC-B3F8-961E9B69D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1182600" y="1371240"/>
            <a:ext cx="37926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5165280" y="1371240"/>
            <a:ext cx="379260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1182600" y="3858120"/>
            <a:ext cx="37926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25B7D16-2CC4-4436-9C5C-5C82D2A3A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182600" y="1371240"/>
            <a:ext cx="379260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5165280" y="1371240"/>
            <a:ext cx="37926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5165280" y="3858120"/>
            <a:ext cx="37926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5F4990A-90D3-491C-BA5C-2955AED90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1182600" y="1371240"/>
            <a:ext cx="37926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5165280" y="1371240"/>
            <a:ext cx="37926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1182600" y="3858120"/>
            <a:ext cx="77724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7A63AD4-EA3B-49AC-AAEF-CE7A1F90E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182600" y="1371240"/>
            <a:ext cx="77724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1182600" y="3858120"/>
            <a:ext cx="77724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01A02EC-2D5F-41BA-9B52-52BDC8410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1182600" y="1371240"/>
            <a:ext cx="37926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5165280" y="1371240"/>
            <a:ext cx="37926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1182600" y="3858120"/>
            <a:ext cx="37926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5165280" y="3858120"/>
            <a:ext cx="37926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5735D82-F9CF-47A9-A93D-B0EFA8573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1371240"/>
            <a:ext cx="2502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1371240"/>
            <a:ext cx="2502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1371240"/>
            <a:ext cx="2502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3858120"/>
            <a:ext cx="2502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3858120"/>
            <a:ext cx="2502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3858120"/>
            <a:ext cx="2502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DA8818-9AE5-45E9-BF2B-DA542945B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1182600" y="1371240"/>
            <a:ext cx="2502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810600" y="1371240"/>
            <a:ext cx="2502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438240" y="1371240"/>
            <a:ext cx="2502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1182600" y="3858120"/>
            <a:ext cx="2502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810600" y="3858120"/>
            <a:ext cx="2502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6438240" y="3858120"/>
            <a:ext cx="2502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74A5E0B-C2C0-40B3-9813-05536DEFE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A25B0DE-EF33-4A15-ACCE-77223E14B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subTitle"/>
          </p:nvPr>
        </p:nvSpPr>
        <p:spPr>
          <a:xfrm>
            <a:off x="1182600" y="1371240"/>
            <a:ext cx="7772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DF4BD5B-103D-4E09-B34D-5053CA970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1182600" y="1371240"/>
            <a:ext cx="777240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A4CF7BA-458C-4FB9-98BF-D62DE8428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1182600" y="1371240"/>
            <a:ext cx="379260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5165280" y="1371240"/>
            <a:ext cx="379260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87AFA4A-8ACD-4747-BAA7-1430DC785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404809B-7A9D-48EE-A9DB-A154E6988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ubTitle"/>
          </p:nvPr>
        </p:nvSpPr>
        <p:spPr>
          <a:xfrm>
            <a:off x="1150560" y="151920"/>
            <a:ext cx="779292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0C13A8A-6797-4C76-9A4C-71B40CC8F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1182600" y="1371240"/>
            <a:ext cx="37926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165280" y="1371240"/>
            <a:ext cx="379260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1182600" y="3858120"/>
            <a:ext cx="37926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4D73057-11C1-4C9D-9FC4-7A320A534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1182600" y="1371240"/>
            <a:ext cx="379260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5165280" y="1371240"/>
            <a:ext cx="37926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165280" y="3858120"/>
            <a:ext cx="37926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10C37FD-3CFD-427A-A522-C1862AF22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1182600" y="1371240"/>
            <a:ext cx="37926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5165280" y="1371240"/>
            <a:ext cx="37926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1182600" y="3858120"/>
            <a:ext cx="77724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85E89FB-53FF-4939-B6DF-BC26B3A04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E7139-151E-4AFF-9E6C-DEB0B9E2F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1182600" y="1371240"/>
            <a:ext cx="77724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1182600" y="3858120"/>
            <a:ext cx="77724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DCF4852-38A0-4080-BEE2-AA555C509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1182600" y="1371240"/>
            <a:ext cx="37926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5165280" y="1371240"/>
            <a:ext cx="37926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1182600" y="3858120"/>
            <a:ext cx="37926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/>
          </p:nvPr>
        </p:nvSpPr>
        <p:spPr>
          <a:xfrm>
            <a:off x="5165280" y="3858120"/>
            <a:ext cx="37926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C65B8E6-3A9A-479C-8D47-ECCB26424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182600" y="1371240"/>
            <a:ext cx="2502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3810600" y="1371240"/>
            <a:ext cx="2502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6438240" y="1371240"/>
            <a:ext cx="2502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1182600" y="3858120"/>
            <a:ext cx="2502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9" name="PlaceHolder 6"/>
          <p:cNvSpPr>
            <a:spLocks noGrp="1"/>
          </p:cNvSpPr>
          <p:nvPr>
            <p:ph/>
          </p:nvPr>
        </p:nvSpPr>
        <p:spPr>
          <a:xfrm>
            <a:off x="3810600" y="3858120"/>
            <a:ext cx="2502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0" name="PlaceHolder 7"/>
          <p:cNvSpPr>
            <a:spLocks noGrp="1"/>
          </p:cNvSpPr>
          <p:nvPr>
            <p:ph/>
          </p:nvPr>
        </p:nvSpPr>
        <p:spPr>
          <a:xfrm>
            <a:off x="6438240" y="3858120"/>
            <a:ext cx="2502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C099040-A336-45D4-B449-50968918A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447EA92-8F7A-4F03-AE44-BF70FFC16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subTitle"/>
          </p:nvPr>
        </p:nvSpPr>
        <p:spPr>
          <a:xfrm>
            <a:off x="1182600" y="1371240"/>
            <a:ext cx="7772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A44C3DC-9AE7-411D-A6EC-ECC80D80E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1182600" y="1371240"/>
            <a:ext cx="777240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AC5AD12-61DC-4DA5-8717-AE940149A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1182600" y="1371240"/>
            <a:ext cx="379260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165280" y="1371240"/>
            <a:ext cx="379260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15579AD-AA29-4E22-8B20-8D5773F64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B88511C-9519-453E-BF98-0AEDAB448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subTitle"/>
          </p:nvPr>
        </p:nvSpPr>
        <p:spPr>
          <a:xfrm>
            <a:off x="1150560" y="151920"/>
            <a:ext cx="779292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20FA8B1-3B3D-4A17-9F7F-9074D5163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1182600" y="1371240"/>
            <a:ext cx="37926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5165280" y="1371240"/>
            <a:ext cx="379260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1182600" y="3858120"/>
            <a:ext cx="37926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CEEB8EE-C26B-497D-8B98-8C32B6015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1371240"/>
            <a:ext cx="7772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C8A7E-DFDC-4B62-B37E-A1937F014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1182600" y="1371240"/>
            <a:ext cx="379260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5165280" y="1371240"/>
            <a:ext cx="37926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5165280" y="3858120"/>
            <a:ext cx="37926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637654D-EE95-4597-AB3C-C297D16EA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1182600" y="1371240"/>
            <a:ext cx="37926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5165280" y="1371240"/>
            <a:ext cx="37926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1182600" y="3858120"/>
            <a:ext cx="77724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E3C3A00-8AC5-4333-941F-3BAB20576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1182600" y="1371240"/>
            <a:ext cx="77724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1182600" y="3858120"/>
            <a:ext cx="77724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32A314E-B002-4014-A1C3-208A7981E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1182600" y="1371240"/>
            <a:ext cx="37926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5165280" y="1371240"/>
            <a:ext cx="37926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1182600" y="3858120"/>
            <a:ext cx="37926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5165280" y="3858120"/>
            <a:ext cx="37926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55B47BC-B5D0-486E-AA50-F3DDBD2A4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1182600" y="1371240"/>
            <a:ext cx="2502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3810600" y="1371240"/>
            <a:ext cx="2502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6438240" y="1371240"/>
            <a:ext cx="2502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6" name="PlaceHolder 5"/>
          <p:cNvSpPr>
            <a:spLocks noGrp="1"/>
          </p:cNvSpPr>
          <p:nvPr>
            <p:ph/>
          </p:nvPr>
        </p:nvSpPr>
        <p:spPr>
          <a:xfrm>
            <a:off x="1182600" y="3858120"/>
            <a:ext cx="2502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7" name="PlaceHolder 6"/>
          <p:cNvSpPr>
            <a:spLocks noGrp="1"/>
          </p:cNvSpPr>
          <p:nvPr>
            <p:ph/>
          </p:nvPr>
        </p:nvSpPr>
        <p:spPr>
          <a:xfrm>
            <a:off x="3810600" y="3858120"/>
            <a:ext cx="2502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8" name="PlaceHolder 7"/>
          <p:cNvSpPr>
            <a:spLocks noGrp="1"/>
          </p:cNvSpPr>
          <p:nvPr>
            <p:ph/>
          </p:nvPr>
        </p:nvSpPr>
        <p:spPr>
          <a:xfrm>
            <a:off x="6438240" y="3858120"/>
            <a:ext cx="2502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065A569-68B1-4C31-B90B-C2F952C0A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1371240"/>
            <a:ext cx="777240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4ACAE-1DC0-4CCF-9639-1050CF34C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1371240"/>
            <a:ext cx="379260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1371240"/>
            <a:ext cx="379260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04DAA-D9CC-4BAD-A1FD-08EF2F32B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32547-71EA-4094-89D5-6D371188B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151920"/>
            <a:ext cx="779292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C7B59-1A51-4112-9ACB-DFA906F34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1371240"/>
            <a:ext cx="37926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1371240"/>
            <a:ext cx="379260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3858120"/>
            <a:ext cx="37926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98803-9C67-4F99-84CD-C7794DDE6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1371240"/>
            <a:ext cx="7772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F48905-807A-43A3-84CC-006B59175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1371240"/>
            <a:ext cx="379260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1371240"/>
            <a:ext cx="37926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3858120"/>
            <a:ext cx="37926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B35FB-55F5-4330-99C4-D625650D0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1371240"/>
            <a:ext cx="37926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1371240"/>
            <a:ext cx="37926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3858120"/>
            <a:ext cx="77724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438C2-60E0-4E04-8B13-8E323010A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1371240"/>
            <a:ext cx="77724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3858120"/>
            <a:ext cx="77724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2326C-70DE-4971-BA40-1EA5E2D68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1371240"/>
            <a:ext cx="37926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1371240"/>
            <a:ext cx="37926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3858120"/>
            <a:ext cx="37926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3858120"/>
            <a:ext cx="37926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C66D8-9BC7-473F-ABF4-081D16EA4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1371240"/>
            <a:ext cx="2502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1371240"/>
            <a:ext cx="2502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1371240"/>
            <a:ext cx="2502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3858120"/>
            <a:ext cx="2502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3858120"/>
            <a:ext cx="2502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3858120"/>
            <a:ext cx="2502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55A81-F121-44E2-BFE3-F706F3D8A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854867-4A1F-4DE4-814D-2C0CE5A28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182600" y="1371240"/>
            <a:ext cx="7772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E13713E-B253-419B-9183-4E8767732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1371240"/>
            <a:ext cx="777240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A73A4DA-0FC6-4779-88B2-AAA2F4D93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1371240"/>
            <a:ext cx="379260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65280" y="1371240"/>
            <a:ext cx="379260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AE23EB7-0D09-4041-9B56-B662EA28D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92156C-58CD-4925-8C2A-1BAB93AEC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1371240"/>
            <a:ext cx="777240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5B306F-43E2-432B-A8C9-FE461A93E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150560" y="151920"/>
            <a:ext cx="779292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E4BE1D5-F401-42E6-A20F-2B7C84500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1371240"/>
            <a:ext cx="37926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165280" y="1371240"/>
            <a:ext cx="379260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182600" y="3858120"/>
            <a:ext cx="37926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FD7F8C5-6B9C-4B4D-AAFE-FE99A20F2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2600" y="1371240"/>
            <a:ext cx="379260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165280" y="1371240"/>
            <a:ext cx="37926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165280" y="3858120"/>
            <a:ext cx="37926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C2AADFC-DF82-4DEF-827A-B8CA331D2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600" y="1371240"/>
            <a:ext cx="37926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165280" y="1371240"/>
            <a:ext cx="37926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182600" y="3858120"/>
            <a:ext cx="77724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20DC8FF-2424-4BAD-AB3F-76160203E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1371240"/>
            <a:ext cx="77724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182600" y="3858120"/>
            <a:ext cx="77724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21F92A4-1CCB-4F6F-B642-FFBC571B0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2600" y="1371240"/>
            <a:ext cx="37926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165280" y="1371240"/>
            <a:ext cx="37926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182600" y="3858120"/>
            <a:ext cx="37926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165280" y="3858120"/>
            <a:ext cx="37926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E3FE442-B787-4460-8FA2-D0FACDCC2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82600" y="1371240"/>
            <a:ext cx="2502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810600" y="1371240"/>
            <a:ext cx="2502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438240" y="1371240"/>
            <a:ext cx="2502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182600" y="3858120"/>
            <a:ext cx="2502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810600" y="3858120"/>
            <a:ext cx="2502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438240" y="3858120"/>
            <a:ext cx="2502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8142361-7D08-4303-9190-72F7E0E68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6B75252-AE2D-4CD5-B82D-09B035F6B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1182600" y="1371240"/>
            <a:ext cx="7772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444181B-D779-449B-94BD-7A5A4DC6C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82600" y="1371240"/>
            <a:ext cx="777240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C974190-5448-49D1-B628-6DD7E77C7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1371240"/>
            <a:ext cx="379260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1371240"/>
            <a:ext cx="379260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7B0D77-A784-47A0-ABD8-4CCF5BD73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82600" y="1371240"/>
            <a:ext cx="379260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165280" y="1371240"/>
            <a:ext cx="379260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98E13FF-FB9A-4611-A699-2E2087461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F9E9595-7311-4B29-8EB5-AD961E36F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1150560" y="151920"/>
            <a:ext cx="779292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D31357B-6835-464C-9534-E9B4815AD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1371240"/>
            <a:ext cx="37926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165280" y="1371240"/>
            <a:ext cx="379260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182600" y="3858120"/>
            <a:ext cx="37926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CCDCBF0-455B-4457-BD6D-ED1513028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82600" y="1371240"/>
            <a:ext cx="379260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165280" y="1371240"/>
            <a:ext cx="37926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5165280" y="3858120"/>
            <a:ext cx="37926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D993932-85D9-43CA-B3A7-6600B0F1D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82600" y="1371240"/>
            <a:ext cx="37926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165280" y="1371240"/>
            <a:ext cx="37926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182600" y="3858120"/>
            <a:ext cx="77724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A834924-134A-4ADC-A274-2B23C687C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1371240"/>
            <a:ext cx="77724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1182600" y="3858120"/>
            <a:ext cx="77724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2EB7417-421C-4DE5-8415-9E1B5A2D8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1371240"/>
            <a:ext cx="37926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165280" y="1371240"/>
            <a:ext cx="37926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1182600" y="3858120"/>
            <a:ext cx="37926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5165280" y="3858120"/>
            <a:ext cx="37926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CC96FA7-454B-4E43-A5EA-4117DB07E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82600" y="1371240"/>
            <a:ext cx="2502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810600" y="1371240"/>
            <a:ext cx="2502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438240" y="1371240"/>
            <a:ext cx="2502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1182600" y="3858120"/>
            <a:ext cx="2502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810600" y="3858120"/>
            <a:ext cx="2502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438240" y="3858120"/>
            <a:ext cx="2502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0FAF66A-BD3F-4210-B39B-0FF2F2ABD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97A6A0E-448A-4478-8892-C4E73D868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C29A15-2C70-4934-BB97-A2FFE42FF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1182600" y="1371240"/>
            <a:ext cx="7772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DA4A7F1-782C-42E8-B2A3-7FDA9FA25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182600" y="1371240"/>
            <a:ext cx="777240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47DBE46-C1F1-45FA-ACB5-871BAAFD1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182600" y="1371240"/>
            <a:ext cx="379260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5165280" y="1371240"/>
            <a:ext cx="379260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26E3EC5-1432-4D77-ACB1-3B4160398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EFF7B69-8AFF-4884-8F57-E08A080DB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1150560" y="151920"/>
            <a:ext cx="779292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B5D9C81-AC34-42BB-BE75-39BDF4906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1371240"/>
            <a:ext cx="37926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5165280" y="1371240"/>
            <a:ext cx="379260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1182600" y="3858120"/>
            <a:ext cx="37926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F1FF2F5-2C7B-4684-86C5-7D2931BB0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182600" y="1371240"/>
            <a:ext cx="379260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5165280" y="1371240"/>
            <a:ext cx="37926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5165280" y="3858120"/>
            <a:ext cx="37926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8DFE6F1-BA86-4A25-B803-91CD617E4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182600" y="1371240"/>
            <a:ext cx="37926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5165280" y="1371240"/>
            <a:ext cx="37926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182600" y="3858120"/>
            <a:ext cx="77724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77A578C-502B-4A4B-A1C9-A68E91B09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182600" y="1371240"/>
            <a:ext cx="77724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1182600" y="3858120"/>
            <a:ext cx="77724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37CDA6A-DDD1-4A7A-947A-EDF8F075A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182600" y="1371240"/>
            <a:ext cx="37926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165280" y="1371240"/>
            <a:ext cx="37926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1182600" y="3858120"/>
            <a:ext cx="37926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5165280" y="3858120"/>
            <a:ext cx="37926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63BB845-DB84-4C6E-99E0-272BD026A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151920"/>
            <a:ext cx="779292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EA67AB-542C-4957-A3C9-A38D3D097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182600" y="1371240"/>
            <a:ext cx="2502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810600" y="1371240"/>
            <a:ext cx="2502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438240" y="1371240"/>
            <a:ext cx="2502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1182600" y="3858120"/>
            <a:ext cx="2502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810600" y="3858120"/>
            <a:ext cx="2502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6438240" y="3858120"/>
            <a:ext cx="2502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4625E12-46D5-4C1A-B49A-B9EB98A5D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30700C4-9FC6-4D6E-A358-26B8D4530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1182600" y="1371240"/>
            <a:ext cx="7772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AF35540-B7D1-43E3-A29C-17B329FAC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182600" y="1371240"/>
            <a:ext cx="777240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F070920-5D05-4B6E-BAAD-B51F7DC12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182600" y="1371240"/>
            <a:ext cx="379260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5165280" y="1371240"/>
            <a:ext cx="379260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0FD7844-CBC1-4084-8A34-74C8A1EE1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81B2FBB-88D3-479D-A841-BF59CE123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ubTitle"/>
          </p:nvPr>
        </p:nvSpPr>
        <p:spPr>
          <a:xfrm>
            <a:off x="1150560" y="151920"/>
            <a:ext cx="779292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A509787-AE46-44D2-AE2E-542E4ED08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182600" y="1371240"/>
            <a:ext cx="37926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165280" y="1371240"/>
            <a:ext cx="379260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1182600" y="3858120"/>
            <a:ext cx="37926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32FB896-E2E1-4101-9BE4-051DB8C1C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182600" y="1371240"/>
            <a:ext cx="379260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165280" y="1371240"/>
            <a:ext cx="37926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5165280" y="3858120"/>
            <a:ext cx="37926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A54565B-5697-4C44-BBCB-9D7709D11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1371240"/>
            <a:ext cx="37926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165280" y="1371240"/>
            <a:ext cx="37926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1182600" y="3858120"/>
            <a:ext cx="77724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0B5E5A7-8BA8-40AE-9008-80BC52AE8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1371240"/>
            <a:ext cx="37926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1371240"/>
            <a:ext cx="379260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3858120"/>
            <a:ext cx="37926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F7BDFE-E0A1-494B-B735-17D420194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182600" y="1371240"/>
            <a:ext cx="77724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1182600" y="3858120"/>
            <a:ext cx="77724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E70F437-3EF5-4E8E-BD4A-FE94A1ACC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1371240"/>
            <a:ext cx="37926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5165280" y="1371240"/>
            <a:ext cx="37926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1182600" y="3858120"/>
            <a:ext cx="37926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5165280" y="3858120"/>
            <a:ext cx="37926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39BA034-4035-48FE-BBDC-10212845F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182600" y="1371240"/>
            <a:ext cx="2502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3810600" y="1371240"/>
            <a:ext cx="2502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438240" y="1371240"/>
            <a:ext cx="2502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1182600" y="3858120"/>
            <a:ext cx="2502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/>
          </p:nvPr>
        </p:nvSpPr>
        <p:spPr>
          <a:xfrm>
            <a:off x="3810600" y="3858120"/>
            <a:ext cx="2502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0" name="PlaceHolder 7"/>
          <p:cNvSpPr>
            <a:spLocks noGrp="1"/>
          </p:cNvSpPr>
          <p:nvPr>
            <p:ph/>
          </p:nvPr>
        </p:nvSpPr>
        <p:spPr>
          <a:xfrm>
            <a:off x="6438240" y="3858120"/>
            <a:ext cx="2502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8464746-B009-44EA-ADF0-9155D7F31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A7F91D8-02E8-4211-905C-BACE6DD80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1182600" y="1371240"/>
            <a:ext cx="7772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740D39A-EC7C-40B5-BBF2-02A623E6F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1371240"/>
            <a:ext cx="777240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AF65259-DD04-4C9C-BFE9-1939EFC82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182600" y="1371240"/>
            <a:ext cx="379260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165280" y="1371240"/>
            <a:ext cx="379260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A02A440-98A8-41EA-93DD-42CDAC2AE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812C372-B51B-41AA-82D4-D46EBBF53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1150560" y="151920"/>
            <a:ext cx="779292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26442D3-5EE8-40E7-97C9-861B1A75A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1371240"/>
            <a:ext cx="37926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5165280" y="1371240"/>
            <a:ext cx="379260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1182600" y="3858120"/>
            <a:ext cx="37926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1BA24EE-E0C2-4EAB-B672-D20EA0723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1371240"/>
            <a:ext cx="379260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1371240"/>
            <a:ext cx="37926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3858120"/>
            <a:ext cx="37926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47717A-799F-41D9-9910-18631E2AB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1371240"/>
            <a:ext cx="379260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165280" y="1371240"/>
            <a:ext cx="37926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165280" y="3858120"/>
            <a:ext cx="37926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D8C65FA-A120-48AA-8BC2-813F090BF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1371240"/>
            <a:ext cx="37926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5165280" y="1371240"/>
            <a:ext cx="37926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1182600" y="3858120"/>
            <a:ext cx="77724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B7D71A2-9533-446B-848A-ED4282560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1371240"/>
            <a:ext cx="77724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1182600" y="3858120"/>
            <a:ext cx="77724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18826AF-6453-4D9A-B98A-AC6EDB86E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182600" y="1371240"/>
            <a:ext cx="37926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5165280" y="1371240"/>
            <a:ext cx="37926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1182600" y="3858120"/>
            <a:ext cx="37926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5165280" y="3858120"/>
            <a:ext cx="37926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FB6BDA9-0B63-4640-BCE3-CF210CDE1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1371240"/>
            <a:ext cx="2502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3810600" y="1371240"/>
            <a:ext cx="2502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6438240" y="1371240"/>
            <a:ext cx="2502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1182600" y="3858120"/>
            <a:ext cx="2502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7" name="PlaceHolder 6"/>
          <p:cNvSpPr>
            <a:spLocks noGrp="1"/>
          </p:cNvSpPr>
          <p:nvPr>
            <p:ph/>
          </p:nvPr>
        </p:nvSpPr>
        <p:spPr>
          <a:xfrm>
            <a:off x="3810600" y="3858120"/>
            <a:ext cx="2502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8" name="PlaceHolder 7"/>
          <p:cNvSpPr>
            <a:spLocks noGrp="1"/>
          </p:cNvSpPr>
          <p:nvPr>
            <p:ph/>
          </p:nvPr>
        </p:nvSpPr>
        <p:spPr>
          <a:xfrm>
            <a:off x="6438240" y="3858120"/>
            <a:ext cx="2502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2C6665A-3828-4BC7-9B74-53C025462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C146E69-D911-40A2-8C6D-10A8140AF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1182600" y="1371240"/>
            <a:ext cx="7772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FEE6778-C9F3-43FB-B945-D0CB200AA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182600" y="1371240"/>
            <a:ext cx="777240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AD6F0F1-CE26-4A22-B92A-5D3141028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182600" y="1371240"/>
            <a:ext cx="379260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5165280" y="1371240"/>
            <a:ext cx="379260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FB334AA-8767-4DB7-89B5-2BE25E159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8B9D77C-4A34-4263-8092-8FACB2300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1371240"/>
            <a:ext cx="37926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1371240"/>
            <a:ext cx="37926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3858120"/>
            <a:ext cx="77724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D798AF-6F20-41EC-B3DC-3ADC65846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1150560" y="151920"/>
            <a:ext cx="779292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FBAEA3D-BD0A-4D24-9127-972C51018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182600" y="1371240"/>
            <a:ext cx="37926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5165280" y="1371240"/>
            <a:ext cx="379260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1182600" y="3858120"/>
            <a:ext cx="37926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C4CFF52-B930-4CEB-A5E5-A537DD107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182600" y="1371240"/>
            <a:ext cx="379260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5165280" y="1371240"/>
            <a:ext cx="37926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5165280" y="3858120"/>
            <a:ext cx="37926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0AB01B0-9878-445C-9579-CF507E2D9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182600" y="1371240"/>
            <a:ext cx="37926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5165280" y="1371240"/>
            <a:ext cx="37926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1182600" y="3858120"/>
            <a:ext cx="77724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3E41735-3638-4479-A769-DDE2DF5A2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1182600" y="1371240"/>
            <a:ext cx="77724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1182600" y="3858120"/>
            <a:ext cx="77724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65F3974-FFA6-4D37-823B-99210D1C5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1182600" y="1371240"/>
            <a:ext cx="37926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165280" y="1371240"/>
            <a:ext cx="37926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1182600" y="3858120"/>
            <a:ext cx="37926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5165280" y="3858120"/>
            <a:ext cx="37926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F6B5F8B-FAE5-4030-91D1-10475DC90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182600" y="1371240"/>
            <a:ext cx="2502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810600" y="1371240"/>
            <a:ext cx="2502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6438240" y="1371240"/>
            <a:ext cx="2502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1182600" y="3858120"/>
            <a:ext cx="2502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810600" y="3858120"/>
            <a:ext cx="2502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6438240" y="3858120"/>
            <a:ext cx="250236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BA1E29F-4B72-4ECF-B4BE-8D8825563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8CCD954-67B0-4FC5-9A1E-5A6405FF1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subTitle"/>
          </p:nvPr>
        </p:nvSpPr>
        <p:spPr>
          <a:xfrm>
            <a:off x="1182600" y="1371240"/>
            <a:ext cx="7772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7022B87-C213-474B-BCCB-1969557A8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182600" y="1371240"/>
            <a:ext cx="777240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EDA7DC2-545F-4308-A6CA-35FA7198D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66840" y="4129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749160" y="412920"/>
            <a:ext cx="32868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490680" y="8352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860400" y="8352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76320" y="7621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11360" y="3049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392040" y="10954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1371240"/>
            <a:ext cx="777240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533520" y="6324480"/>
            <a:ext cx="1218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hapter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2"/>
          </p:nvPr>
        </p:nvSpPr>
        <p:spPr>
          <a:xfrm>
            <a:off x="7543440" y="6324480"/>
            <a:ext cx="1143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B4BAE-7161-4B27-86B1-8D5CA8A8BD6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ftr" idx="3"/>
          </p:nvPr>
        </p:nvSpPr>
        <p:spPr>
          <a:xfrm>
            <a:off x="1752120" y="6324480"/>
            <a:ext cx="5791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Service-Oriented Computing: Semantics, Processes, Agents - Munindar Singh and Michael Huh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2"/>
          <p:cNvSpPr/>
          <p:nvPr/>
        </p:nvSpPr>
        <p:spPr>
          <a:xfrm>
            <a:off x="366840" y="4129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6" name="Rectangle 3"/>
          <p:cNvSpPr/>
          <p:nvPr/>
        </p:nvSpPr>
        <p:spPr>
          <a:xfrm>
            <a:off x="749160" y="412920"/>
            <a:ext cx="32868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7" name="Rectangle 4"/>
          <p:cNvSpPr/>
          <p:nvPr/>
        </p:nvSpPr>
        <p:spPr>
          <a:xfrm>
            <a:off x="490680" y="8352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8" name="Rectangle 5"/>
          <p:cNvSpPr/>
          <p:nvPr/>
        </p:nvSpPr>
        <p:spPr>
          <a:xfrm>
            <a:off x="860400" y="8352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9" name="Rectangle 6"/>
          <p:cNvSpPr/>
          <p:nvPr/>
        </p:nvSpPr>
        <p:spPr>
          <a:xfrm>
            <a:off x="76320" y="7621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0" name="Rectangle 7"/>
          <p:cNvSpPr/>
          <p:nvPr/>
        </p:nvSpPr>
        <p:spPr>
          <a:xfrm>
            <a:off x="711360" y="3049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1" name="Rectangle 8"/>
          <p:cNvSpPr/>
          <p:nvPr/>
        </p:nvSpPr>
        <p:spPr>
          <a:xfrm>
            <a:off x="392040" y="10954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1182600" y="1371240"/>
            <a:ext cx="777240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 type="dt" idx="28"/>
          </p:nvPr>
        </p:nvSpPr>
        <p:spPr>
          <a:xfrm>
            <a:off x="533520" y="6324480"/>
            <a:ext cx="1218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hapter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 type="sldNum" idx="29"/>
          </p:nvPr>
        </p:nvSpPr>
        <p:spPr>
          <a:xfrm>
            <a:off x="7543440" y="6324480"/>
            <a:ext cx="1143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7F3E9-0B64-4A71-84EE-D470B5C4925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 type="ftr" idx="30"/>
          </p:nvPr>
        </p:nvSpPr>
        <p:spPr>
          <a:xfrm>
            <a:off x="1752120" y="6324480"/>
            <a:ext cx="5791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Service-Oriented Computing: Semantics, Processes, Agents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- Munindar Singh and Michael Huh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2"/>
          <p:cNvSpPr/>
          <p:nvPr/>
        </p:nvSpPr>
        <p:spPr>
          <a:xfrm>
            <a:off x="366840" y="4129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Rectangle 3"/>
          <p:cNvSpPr/>
          <p:nvPr/>
        </p:nvSpPr>
        <p:spPr>
          <a:xfrm>
            <a:off x="749160" y="412920"/>
            <a:ext cx="32868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Rectangle 4"/>
          <p:cNvSpPr/>
          <p:nvPr/>
        </p:nvSpPr>
        <p:spPr>
          <a:xfrm>
            <a:off x="490680" y="8352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Rectangle 5"/>
          <p:cNvSpPr/>
          <p:nvPr/>
        </p:nvSpPr>
        <p:spPr>
          <a:xfrm>
            <a:off x="860400" y="8352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Rectangle 6"/>
          <p:cNvSpPr/>
          <p:nvPr/>
        </p:nvSpPr>
        <p:spPr>
          <a:xfrm>
            <a:off x="76320" y="7621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Rectangle 7"/>
          <p:cNvSpPr/>
          <p:nvPr/>
        </p:nvSpPr>
        <p:spPr>
          <a:xfrm>
            <a:off x="711360" y="3049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8"/>
          <p:cNvSpPr/>
          <p:nvPr/>
        </p:nvSpPr>
        <p:spPr>
          <a:xfrm>
            <a:off x="392040" y="10954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1182600" y="1371240"/>
            <a:ext cx="777240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 type="dt" idx="31"/>
          </p:nvPr>
        </p:nvSpPr>
        <p:spPr>
          <a:xfrm>
            <a:off x="533520" y="6324480"/>
            <a:ext cx="1218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hapter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 type="sldNum" idx="32"/>
          </p:nvPr>
        </p:nvSpPr>
        <p:spPr>
          <a:xfrm>
            <a:off x="7543440" y="6324480"/>
            <a:ext cx="1143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D02A2-71CE-47F8-87DE-2E4A6A854E0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 type="ftr" idx="33"/>
          </p:nvPr>
        </p:nvSpPr>
        <p:spPr>
          <a:xfrm>
            <a:off x="1752120" y="6324480"/>
            <a:ext cx="5791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Service-Oriented Computing: Semantics, Processes, Agents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- Munindar Singh and Michael Huh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2"/>
          <p:cNvSpPr/>
          <p:nvPr/>
        </p:nvSpPr>
        <p:spPr>
          <a:xfrm>
            <a:off x="366840" y="4129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2" name="Rectangle 3"/>
          <p:cNvSpPr/>
          <p:nvPr/>
        </p:nvSpPr>
        <p:spPr>
          <a:xfrm>
            <a:off x="749160" y="412920"/>
            <a:ext cx="32868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3" name="Rectangle 4"/>
          <p:cNvSpPr/>
          <p:nvPr/>
        </p:nvSpPr>
        <p:spPr>
          <a:xfrm>
            <a:off x="490680" y="8352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4" name="Rectangle 5"/>
          <p:cNvSpPr/>
          <p:nvPr/>
        </p:nvSpPr>
        <p:spPr>
          <a:xfrm>
            <a:off x="860400" y="8352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5" name="Rectangle 6"/>
          <p:cNvSpPr/>
          <p:nvPr/>
        </p:nvSpPr>
        <p:spPr>
          <a:xfrm>
            <a:off x="76320" y="7621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Rectangle 7"/>
          <p:cNvSpPr/>
          <p:nvPr/>
        </p:nvSpPr>
        <p:spPr>
          <a:xfrm>
            <a:off x="711360" y="3049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Rectangle 8"/>
          <p:cNvSpPr/>
          <p:nvPr/>
        </p:nvSpPr>
        <p:spPr>
          <a:xfrm>
            <a:off x="392040" y="10954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1182600" y="1371240"/>
            <a:ext cx="777240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 type="dt" idx="34"/>
          </p:nvPr>
        </p:nvSpPr>
        <p:spPr>
          <a:xfrm>
            <a:off x="533520" y="6324480"/>
            <a:ext cx="1218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hapter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 type="sldNum" idx="35"/>
          </p:nvPr>
        </p:nvSpPr>
        <p:spPr>
          <a:xfrm>
            <a:off x="7543440" y="6324480"/>
            <a:ext cx="1143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15844-67FD-41E0-B571-FD54B12F2EC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 type="ftr" idx="36"/>
          </p:nvPr>
        </p:nvSpPr>
        <p:spPr>
          <a:xfrm>
            <a:off x="1752120" y="6324480"/>
            <a:ext cx="5791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Service-Oriented Computing: Semantics, Processes, Agents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- Munindar Singh and Michael Huh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135000" y="243000"/>
            <a:ext cx="9009000" cy="1052280"/>
            <a:chOff x="135000" y="243000"/>
            <a:chExt cx="9009000" cy="1052280"/>
          </a:xfrm>
        </p:grpSpPr>
        <p:grpSp>
          <p:nvGrpSpPr>
            <p:cNvPr id="49" name="Group 3"/>
            <p:cNvGrpSpPr/>
            <p:nvPr/>
          </p:nvGrpSpPr>
          <p:grpSpPr>
            <a:xfrm>
              <a:off x="428760" y="350640"/>
              <a:ext cx="712440" cy="474480"/>
              <a:chOff x="428760" y="350640"/>
              <a:chExt cx="712440" cy="47448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428760" y="350640"/>
                <a:ext cx="438480" cy="47448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812520" y="350640"/>
                <a:ext cx="328680" cy="47448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552600" y="772920"/>
              <a:ext cx="739800" cy="474480"/>
              <a:chOff x="552600" y="772920"/>
              <a:chExt cx="739800" cy="47448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552600" y="772920"/>
                <a:ext cx="422640" cy="47448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922320" y="772920"/>
                <a:ext cx="370080" cy="47448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135000" y="699840"/>
              <a:ext cx="560520" cy="4219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770040" y="243000"/>
              <a:ext cx="31680" cy="105228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451080" y="1064160"/>
              <a:ext cx="8692920" cy="550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1371240"/>
            <a:ext cx="777240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c1c1c"/>
                </a:solidFill>
                <a:latin typeface="Times New Roman"/>
              </a:rPr>
              <a:t>Chapter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c1c1c"/>
                </a:solidFill>
                <a:latin typeface="Times New Roman"/>
              </a:rPr>
              <a:t>Service-Oriented Computing: Semantics, Processes, Agen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3F225-097E-4EC8-9AA4-C8629C9CBA66}" type="slidenum">
              <a:rPr b="0" lang="en-US" sz="10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2"/>
          <p:cNvSpPr/>
          <p:nvPr/>
        </p:nvSpPr>
        <p:spPr>
          <a:xfrm>
            <a:off x="366840" y="4129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Rectangle 3"/>
          <p:cNvSpPr/>
          <p:nvPr/>
        </p:nvSpPr>
        <p:spPr>
          <a:xfrm>
            <a:off x="749160" y="412920"/>
            <a:ext cx="32868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490680" y="8352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5"/>
          <p:cNvSpPr/>
          <p:nvPr/>
        </p:nvSpPr>
        <p:spPr>
          <a:xfrm>
            <a:off x="860400" y="8352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76320" y="7621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Rectangle 7"/>
          <p:cNvSpPr/>
          <p:nvPr/>
        </p:nvSpPr>
        <p:spPr>
          <a:xfrm>
            <a:off x="711360" y="3049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8"/>
          <p:cNvSpPr/>
          <p:nvPr/>
        </p:nvSpPr>
        <p:spPr>
          <a:xfrm>
            <a:off x="392040" y="10954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182600" y="1371240"/>
            <a:ext cx="777240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533520" y="6324480"/>
            <a:ext cx="1218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hapter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sldNum" idx="8"/>
          </p:nvPr>
        </p:nvSpPr>
        <p:spPr>
          <a:xfrm>
            <a:off x="7543440" y="6324480"/>
            <a:ext cx="1143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7CB54-698F-4FA6-9705-949F266585E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ftr" idx="9"/>
          </p:nvPr>
        </p:nvSpPr>
        <p:spPr>
          <a:xfrm>
            <a:off x="1752120" y="6324480"/>
            <a:ext cx="5791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Service-Oriented Computing: Semantics, Processes, Agents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- Munindar Singh and Michael Huh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2"/>
          <p:cNvSpPr/>
          <p:nvPr/>
        </p:nvSpPr>
        <p:spPr>
          <a:xfrm>
            <a:off x="366840" y="4129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3"/>
          <p:cNvSpPr/>
          <p:nvPr/>
        </p:nvSpPr>
        <p:spPr>
          <a:xfrm>
            <a:off x="749160" y="412920"/>
            <a:ext cx="32868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Rectangle 4"/>
          <p:cNvSpPr/>
          <p:nvPr/>
        </p:nvSpPr>
        <p:spPr>
          <a:xfrm>
            <a:off x="490680" y="8352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5"/>
          <p:cNvSpPr/>
          <p:nvPr/>
        </p:nvSpPr>
        <p:spPr>
          <a:xfrm>
            <a:off x="860400" y="8352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Rectangle 6"/>
          <p:cNvSpPr/>
          <p:nvPr/>
        </p:nvSpPr>
        <p:spPr>
          <a:xfrm>
            <a:off x="76320" y="7621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Rectangle 7"/>
          <p:cNvSpPr/>
          <p:nvPr/>
        </p:nvSpPr>
        <p:spPr>
          <a:xfrm>
            <a:off x="711360" y="3049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Rectangle 8"/>
          <p:cNvSpPr/>
          <p:nvPr/>
        </p:nvSpPr>
        <p:spPr>
          <a:xfrm>
            <a:off x="392040" y="10954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1182600" y="1371240"/>
            <a:ext cx="777240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533520" y="6324480"/>
            <a:ext cx="1218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hapter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sldNum" idx="11"/>
          </p:nvPr>
        </p:nvSpPr>
        <p:spPr>
          <a:xfrm>
            <a:off x="7543440" y="6324480"/>
            <a:ext cx="1143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920D8-78B7-44A0-9989-04E2615AFF9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ftr" idx="12"/>
          </p:nvPr>
        </p:nvSpPr>
        <p:spPr>
          <a:xfrm>
            <a:off x="1752120" y="6324480"/>
            <a:ext cx="5791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Service-Oriented Computing: Semantics, Processes, Agents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- Munindar Singh and Michael Huh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2"/>
          <p:cNvSpPr/>
          <p:nvPr/>
        </p:nvSpPr>
        <p:spPr>
          <a:xfrm>
            <a:off x="366840" y="4129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Rectangle 3"/>
          <p:cNvSpPr/>
          <p:nvPr/>
        </p:nvSpPr>
        <p:spPr>
          <a:xfrm>
            <a:off x="749160" y="412920"/>
            <a:ext cx="32868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490680" y="8352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Rectangle 5"/>
          <p:cNvSpPr/>
          <p:nvPr/>
        </p:nvSpPr>
        <p:spPr>
          <a:xfrm>
            <a:off x="860400" y="8352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Rectangle 6"/>
          <p:cNvSpPr/>
          <p:nvPr/>
        </p:nvSpPr>
        <p:spPr>
          <a:xfrm>
            <a:off x="76320" y="7621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Rectangle 7"/>
          <p:cNvSpPr/>
          <p:nvPr/>
        </p:nvSpPr>
        <p:spPr>
          <a:xfrm>
            <a:off x="711360" y="3049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Rectangle 8"/>
          <p:cNvSpPr/>
          <p:nvPr/>
        </p:nvSpPr>
        <p:spPr>
          <a:xfrm>
            <a:off x="392040" y="10954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1182600" y="1371240"/>
            <a:ext cx="777240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dt" idx="13"/>
          </p:nvPr>
        </p:nvSpPr>
        <p:spPr>
          <a:xfrm>
            <a:off x="533520" y="6324480"/>
            <a:ext cx="1218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hapter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 type="sldNum" idx="14"/>
          </p:nvPr>
        </p:nvSpPr>
        <p:spPr>
          <a:xfrm>
            <a:off x="7543440" y="6324480"/>
            <a:ext cx="1143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3E3F6-A704-419A-9999-63810C71EF6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 type="ftr" idx="15"/>
          </p:nvPr>
        </p:nvSpPr>
        <p:spPr>
          <a:xfrm>
            <a:off x="1752120" y="6324480"/>
            <a:ext cx="5791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Service-Oriented Computing: Semantics, Processes, Agents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- Munindar Singh and Michael Huh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2"/>
          <p:cNvSpPr/>
          <p:nvPr/>
        </p:nvSpPr>
        <p:spPr>
          <a:xfrm>
            <a:off x="366840" y="4129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Rectangle 3"/>
          <p:cNvSpPr/>
          <p:nvPr/>
        </p:nvSpPr>
        <p:spPr>
          <a:xfrm>
            <a:off x="749160" y="412920"/>
            <a:ext cx="32868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" name="Rectangle 4"/>
          <p:cNvSpPr/>
          <p:nvPr/>
        </p:nvSpPr>
        <p:spPr>
          <a:xfrm>
            <a:off x="490680" y="8352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Rectangle 5"/>
          <p:cNvSpPr/>
          <p:nvPr/>
        </p:nvSpPr>
        <p:spPr>
          <a:xfrm>
            <a:off x="860400" y="8352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Rectangle 6"/>
          <p:cNvSpPr/>
          <p:nvPr/>
        </p:nvSpPr>
        <p:spPr>
          <a:xfrm>
            <a:off x="76320" y="7621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8" name="Rectangle 7"/>
          <p:cNvSpPr/>
          <p:nvPr/>
        </p:nvSpPr>
        <p:spPr>
          <a:xfrm>
            <a:off x="711360" y="3049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" name="Rectangle 8"/>
          <p:cNvSpPr/>
          <p:nvPr/>
        </p:nvSpPr>
        <p:spPr>
          <a:xfrm>
            <a:off x="392040" y="10954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1182600" y="1371240"/>
            <a:ext cx="777240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 type="dt" idx="16"/>
          </p:nvPr>
        </p:nvSpPr>
        <p:spPr>
          <a:xfrm>
            <a:off x="533520" y="6324480"/>
            <a:ext cx="1218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hapter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 type="sldNum" idx="17"/>
          </p:nvPr>
        </p:nvSpPr>
        <p:spPr>
          <a:xfrm>
            <a:off x="7543440" y="6324480"/>
            <a:ext cx="1143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C300B-4188-4B5A-BEEF-5DC7E6F1E4C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 type="ftr" idx="18"/>
          </p:nvPr>
        </p:nvSpPr>
        <p:spPr>
          <a:xfrm>
            <a:off x="1752120" y="6324480"/>
            <a:ext cx="5791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Service-Oriented Computing: Semantics, Processes, Agents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- Munindar Singh and Michael Huh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2"/>
          <p:cNvSpPr/>
          <p:nvPr/>
        </p:nvSpPr>
        <p:spPr>
          <a:xfrm>
            <a:off x="366840" y="4129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2" name="Rectangle 3"/>
          <p:cNvSpPr/>
          <p:nvPr/>
        </p:nvSpPr>
        <p:spPr>
          <a:xfrm>
            <a:off x="749160" y="412920"/>
            <a:ext cx="32868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" name="Rectangle 4"/>
          <p:cNvSpPr/>
          <p:nvPr/>
        </p:nvSpPr>
        <p:spPr>
          <a:xfrm>
            <a:off x="490680" y="8352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" name="Rectangle 5"/>
          <p:cNvSpPr/>
          <p:nvPr/>
        </p:nvSpPr>
        <p:spPr>
          <a:xfrm>
            <a:off x="860400" y="8352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Rectangle 6"/>
          <p:cNvSpPr/>
          <p:nvPr/>
        </p:nvSpPr>
        <p:spPr>
          <a:xfrm>
            <a:off x="76320" y="7621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6" name="Rectangle 7"/>
          <p:cNvSpPr/>
          <p:nvPr/>
        </p:nvSpPr>
        <p:spPr>
          <a:xfrm>
            <a:off x="711360" y="3049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7" name="Rectangle 8"/>
          <p:cNvSpPr/>
          <p:nvPr/>
        </p:nvSpPr>
        <p:spPr>
          <a:xfrm>
            <a:off x="392040" y="10954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1182600" y="1371240"/>
            <a:ext cx="777240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 type="dt" idx="19"/>
          </p:nvPr>
        </p:nvSpPr>
        <p:spPr>
          <a:xfrm>
            <a:off x="533520" y="6324480"/>
            <a:ext cx="1218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hapter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 type="sldNum" idx="20"/>
          </p:nvPr>
        </p:nvSpPr>
        <p:spPr>
          <a:xfrm>
            <a:off x="7543440" y="6324480"/>
            <a:ext cx="1143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17EE8-8945-4ADA-B010-390C4AC6A8C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 type="ftr" idx="21"/>
          </p:nvPr>
        </p:nvSpPr>
        <p:spPr>
          <a:xfrm>
            <a:off x="1752120" y="6324480"/>
            <a:ext cx="5791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Service-Oriented Computing: Semantics, Processes, Agents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- Munindar Singh and Michael Huh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2"/>
          <p:cNvSpPr/>
          <p:nvPr/>
        </p:nvSpPr>
        <p:spPr>
          <a:xfrm>
            <a:off x="366840" y="4129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0" name="Rectangle 3"/>
          <p:cNvSpPr/>
          <p:nvPr/>
        </p:nvSpPr>
        <p:spPr>
          <a:xfrm>
            <a:off x="749160" y="412920"/>
            <a:ext cx="32868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Rectangle 4"/>
          <p:cNvSpPr/>
          <p:nvPr/>
        </p:nvSpPr>
        <p:spPr>
          <a:xfrm>
            <a:off x="490680" y="8352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Rectangle 5"/>
          <p:cNvSpPr/>
          <p:nvPr/>
        </p:nvSpPr>
        <p:spPr>
          <a:xfrm>
            <a:off x="860400" y="8352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3" name="Rectangle 6"/>
          <p:cNvSpPr/>
          <p:nvPr/>
        </p:nvSpPr>
        <p:spPr>
          <a:xfrm>
            <a:off x="76320" y="7621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4" name="Rectangle 7"/>
          <p:cNvSpPr/>
          <p:nvPr/>
        </p:nvSpPr>
        <p:spPr>
          <a:xfrm>
            <a:off x="711360" y="3049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5" name="Rectangle 8"/>
          <p:cNvSpPr/>
          <p:nvPr/>
        </p:nvSpPr>
        <p:spPr>
          <a:xfrm>
            <a:off x="392040" y="10954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1182600" y="1371240"/>
            <a:ext cx="777240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dt" idx="22"/>
          </p:nvPr>
        </p:nvSpPr>
        <p:spPr>
          <a:xfrm>
            <a:off x="533520" y="6324480"/>
            <a:ext cx="1218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hapter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sldNum" idx="23"/>
          </p:nvPr>
        </p:nvSpPr>
        <p:spPr>
          <a:xfrm>
            <a:off x="7543440" y="6324480"/>
            <a:ext cx="1143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D7430-26B1-4736-8E1F-0C31E2C9B7D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 type="ftr" idx="24"/>
          </p:nvPr>
        </p:nvSpPr>
        <p:spPr>
          <a:xfrm>
            <a:off x="1752120" y="6324480"/>
            <a:ext cx="5791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Service-Oriented Computing: Semantics, Processes, Agents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- Munindar Singh and Michael Huh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2"/>
          <p:cNvSpPr/>
          <p:nvPr/>
        </p:nvSpPr>
        <p:spPr>
          <a:xfrm>
            <a:off x="366840" y="4129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Rectangle 3"/>
          <p:cNvSpPr/>
          <p:nvPr/>
        </p:nvSpPr>
        <p:spPr>
          <a:xfrm>
            <a:off x="749160" y="412920"/>
            <a:ext cx="32868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Rectangle 4"/>
          <p:cNvSpPr/>
          <p:nvPr/>
        </p:nvSpPr>
        <p:spPr>
          <a:xfrm>
            <a:off x="490680" y="8352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0" name="Rectangle 5"/>
          <p:cNvSpPr/>
          <p:nvPr/>
        </p:nvSpPr>
        <p:spPr>
          <a:xfrm>
            <a:off x="860400" y="8352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Rectangle 6"/>
          <p:cNvSpPr/>
          <p:nvPr/>
        </p:nvSpPr>
        <p:spPr>
          <a:xfrm>
            <a:off x="76320" y="7621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Rectangle 7"/>
          <p:cNvSpPr/>
          <p:nvPr/>
        </p:nvSpPr>
        <p:spPr>
          <a:xfrm>
            <a:off x="711360" y="3049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3" name="Rectangle 8"/>
          <p:cNvSpPr/>
          <p:nvPr/>
        </p:nvSpPr>
        <p:spPr>
          <a:xfrm>
            <a:off x="392040" y="10954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1182600" y="1371240"/>
            <a:ext cx="777240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 type="dt" idx="25"/>
          </p:nvPr>
        </p:nvSpPr>
        <p:spPr>
          <a:xfrm>
            <a:off x="533520" y="6324480"/>
            <a:ext cx="1218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hapter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 type="sldNum" idx="26"/>
          </p:nvPr>
        </p:nvSpPr>
        <p:spPr>
          <a:xfrm>
            <a:off x="7543440" y="6324480"/>
            <a:ext cx="1143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C9E98-2552-46A2-AE3B-5ED79F782DC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 type="ftr" idx="27"/>
          </p:nvPr>
        </p:nvSpPr>
        <p:spPr>
          <a:xfrm>
            <a:off x="1752120" y="6324480"/>
            <a:ext cx="5791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Service-Oriented Computing: Semantics, Processes, Agents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- Munindar Singh and Michael Huh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subTitle"/>
          </p:nvPr>
        </p:nvSpPr>
        <p:spPr>
          <a:xfrm>
            <a:off x="914400" y="1828800"/>
            <a:ext cx="78487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Lecture 6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SOAP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WSDL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UDDI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Date Placeholder 2"/>
          <p:cNvSpPr/>
          <p:nvPr/>
        </p:nvSpPr>
        <p:spPr>
          <a:xfrm>
            <a:off x="533520" y="6324480"/>
            <a:ext cx="1218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ter 2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Slide Number Placeholder 3"/>
          <p:cNvSpPr/>
          <p:nvPr/>
        </p:nvSpPr>
        <p:spPr>
          <a:xfrm>
            <a:off x="7543800" y="632448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1ADB6-5718-4A04-A05B-55D7EC36CD71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Footer Placeholder 4"/>
          <p:cNvSpPr/>
          <p:nvPr/>
        </p:nvSpPr>
        <p:spPr>
          <a:xfrm>
            <a:off x="1752480" y="632448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ahoma"/>
              </a:rPr>
              <a:t>Service-Oriented Computing: Semantics, Processes, Agents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- Munindar Singh and Michael Huh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Web Services: Basic Architecture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2" name="Text Box 3"/>
          <p:cNvSpPr/>
          <p:nvPr/>
        </p:nvSpPr>
        <p:spPr>
          <a:xfrm>
            <a:off x="3886200" y="2209680"/>
            <a:ext cx="1523880" cy="762120"/>
          </a:xfrm>
          <a:prstGeom prst="rect">
            <a:avLst/>
          </a:prstGeom>
          <a:solidFill>
            <a:srgbClr val="00e4a8"/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Tahoma"/>
              </a:rPr>
              <a:t>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Tahoma"/>
              </a:rPr>
              <a:t>Brok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Text Box 4"/>
          <p:cNvSpPr/>
          <p:nvPr/>
        </p:nvSpPr>
        <p:spPr>
          <a:xfrm>
            <a:off x="1905120" y="4791240"/>
            <a:ext cx="1295280" cy="695160"/>
          </a:xfrm>
          <a:prstGeom prst="rect">
            <a:avLst/>
          </a:prstGeom>
          <a:solidFill>
            <a:srgbClr val="00e4a8"/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Tahoma"/>
              </a:rPr>
              <a:t>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Tahoma"/>
              </a:rPr>
              <a:t>Provi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Text Box 5"/>
          <p:cNvSpPr/>
          <p:nvPr/>
        </p:nvSpPr>
        <p:spPr>
          <a:xfrm>
            <a:off x="5943600" y="4791240"/>
            <a:ext cx="1447920" cy="695160"/>
          </a:xfrm>
          <a:prstGeom prst="rect">
            <a:avLst/>
          </a:prstGeom>
          <a:solidFill>
            <a:srgbClr val="00e4a8"/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Tahoma"/>
              </a:rPr>
              <a:t>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Tahoma"/>
              </a:rPr>
              <a:t>Reques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6"/>
          <p:cNvSpPr/>
          <p:nvPr/>
        </p:nvSpPr>
        <p:spPr>
          <a:xfrm>
            <a:off x="3962520" y="4800600"/>
            <a:ext cx="129528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Tahoma"/>
              </a:rPr>
              <a:t>Bind or invo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Tahoma"/>
              </a:rPr>
              <a:t>(SOA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7"/>
          <p:cNvSpPr/>
          <p:nvPr/>
        </p:nvSpPr>
        <p:spPr>
          <a:xfrm>
            <a:off x="5267160" y="3276720"/>
            <a:ext cx="136224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Tahoma"/>
              </a:rPr>
              <a:t>Find or disco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Tahoma"/>
              </a:rPr>
              <a:t>(UDDI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8"/>
          <p:cNvSpPr/>
          <p:nvPr/>
        </p:nvSpPr>
        <p:spPr>
          <a:xfrm>
            <a:off x="2362320" y="3276720"/>
            <a:ext cx="168588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Tahoma"/>
              </a:rPr>
              <a:t>Publish or annou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Tahoma"/>
              </a:rPr>
              <a:t>(WSD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Line 9"/>
          <p:cNvSpPr/>
          <p:nvPr/>
        </p:nvSpPr>
        <p:spPr>
          <a:xfrm>
            <a:off x="4581360" y="2971800"/>
            <a:ext cx="1371600" cy="1828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Line 10"/>
          <p:cNvSpPr/>
          <p:nvPr/>
        </p:nvSpPr>
        <p:spPr>
          <a:xfrm flipH="1">
            <a:off x="3209760" y="2971800"/>
            <a:ext cx="1371600" cy="1828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Line 11"/>
          <p:cNvSpPr/>
          <p:nvPr/>
        </p:nvSpPr>
        <p:spPr>
          <a:xfrm>
            <a:off x="3209760" y="4800600"/>
            <a:ext cx="27432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Text Box 12"/>
          <p:cNvSpPr/>
          <p:nvPr/>
        </p:nvSpPr>
        <p:spPr>
          <a:xfrm>
            <a:off x="5275080" y="2216160"/>
            <a:ext cx="264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istry; well-kn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2" name="Text Box 13"/>
          <p:cNvSpPr/>
          <p:nvPr/>
        </p:nvSpPr>
        <p:spPr>
          <a:xfrm>
            <a:off x="1291680" y="5410080"/>
            <a:ext cx="204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 well-kn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Date Placeholder 3"/>
          <p:cNvSpPr/>
          <p:nvPr/>
        </p:nvSpPr>
        <p:spPr>
          <a:xfrm>
            <a:off x="533520" y="6324480"/>
            <a:ext cx="1218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ter 2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Slide Number Placeholder 4"/>
          <p:cNvSpPr/>
          <p:nvPr/>
        </p:nvSpPr>
        <p:spPr>
          <a:xfrm>
            <a:off x="7543800" y="632448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641E5-FC4A-4259-B37E-C7E0ADEE3B64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5" name="Footer Placeholder 5"/>
          <p:cNvSpPr/>
          <p:nvPr/>
        </p:nvSpPr>
        <p:spPr>
          <a:xfrm>
            <a:off x="1752480" y="632448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ahoma"/>
              </a:rPr>
              <a:t>Service-Oriented Computing: Semantics, Processes, Agents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- Munindar Singh and Michael Huh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scribing a Servi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am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.g., GetTempera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ypes of Input Parameter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.g., (String, String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ypes of Output Parameter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.g., Integ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OAP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9" name=""/>
          <p:cNvSpPr txBox="1"/>
          <p:nvPr/>
        </p:nvSpPr>
        <p:spPr>
          <a:xfrm>
            <a:off x="685800" y="1371240"/>
            <a:ext cx="8269200" cy="47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</a:t>
            </a:r>
            <a:r>
              <a:rPr b="0" lang="en-US" sz="2800" spc="-1" strike="noStrike">
                <a:solidFill>
                  <a:srgbClr val="ff0033"/>
                </a:solidFill>
                <a:latin typeface="Tahoma"/>
              </a:rPr>
              <a:t>Envelope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ment that identifies the XML document as a SOAP messag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(mandator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33"/>
                </a:solidFill>
                <a:latin typeface="Tahoma"/>
              </a:rPr>
              <a:t>Head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element that contains header information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(optiona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33"/>
                </a:solidFill>
                <a:latin typeface="Tahoma"/>
              </a:rPr>
              <a:t>Bod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element that contains call and response information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(mandator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33"/>
                </a:solidFill>
                <a:latin typeface="Tahoma"/>
              </a:rPr>
              <a:t>Faul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element containing errors and status information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(optiona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0" name="Date Placeholder 3"/>
          <p:cNvSpPr/>
          <p:nvPr/>
        </p:nvSpPr>
        <p:spPr>
          <a:xfrm>
            <a:off x="533520" y="6324480"/>
            <a:ext cx="1218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ter 2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1" name="Slide Number Placeholder 4"/>
          <p:cNvSpPr/>
          <p:nvPr/>
        </p:nvSpPr>
        <p:spPr>
          <a:xfrm>
            <a:off x="7543800" y="632448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38894-973B-4289-8204-0A636CCEF450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2" name="Footer Placeholder 5"/>
          <p:cNvSpPr/>
          <p:nvPr/>
        </p:nvSpPr>
        <p:spPr>
          <a:xfrm>
            <a:off x="1752480" y="632448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ahoma"/>
              </a:rPr>
              <a:t>Service-Oriented Computing: Semantics, Processes, Agents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- Munindar Singh and Michael Huh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OAP Envelope (1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4" name=""/>
          <p:cNvSpPr txBox="1"/>
          <p:nvPr/>
        </p:nvSpPr>
        <p:spPr>
          <a:xfrm>
            <a:off x="1182600" y="11426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SOAP envelope indicates the start and the end of the message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ahoma"/>
              </a:rPr>
              <a:t>The SOAP envelope solves the problem of knowing when you're done receiving a message and are ready to process it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2d050"/>
                </a:solidFill>
                <a:latin typeface="Tahoma"/>
              </a:rPr>
              <a:t>Every SOAP message has a root Envelope elemen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Tahoma"/>
              </a:rPr>
              <a:t>Envelope element is mandatory part of SOAP Messag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ff"/>
                </a:solidFill>
                <a:latin typeface="Tahoma"/>
              </a:rPr>
              <a:t>Every Envelope element must contain exactly one Body elemen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an Envelope contains a Header element, it must contain no more than one, and it must appear as the first child of the Envelope, before the Body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5" name="Slide Number Placeholder 4"/>
          <p:cNvSpPr/>
          <p:nvPr/>
        </p:nvSpPr>
        <p:spPr>
          <a:xfrm>
            <a:off x="7543800" y="632448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08807-AEF9-44F9-9D9A-C87098DA867C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OAP Envelope (2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7" name=""/>
          <p:cNvSpPr txBox="1"/>
          <p:nvPr/>
        </p:nvSpPr>
        <p:spPr>
          <a:xfrm>
            <a:off x="1182600" y="1371240"/>
            <a:ext cx="7772400" cy="47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e envelope changes when SOAP versions chang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Tahoma"/>
              </a:rPr>
              <a:t>The SOAP envelope is specified using the </a:t>
            </a:r>
            <a:r>
              <a:rPr b="0" i="1" lang="en-US" sz="1800" spc="-1" strike="noStrike">
                <a:solidFill>
                  <a:srgbClr val="0070c0"/>
                </a:solidFill>
                <a:latin typeface="Tahoma"/>
              </a:rPr>
              <a:t>ENV</a:t>
            </a:r>
            <a:r>
              <a:rPr b="0" lang="en-US" sz="1800" spc="-1" strike="noStrike">
                <a:solidFill>
                  <a:srgbClr val="0070c0"/>
                </a:solidFill>
                <a:latin typeface="Tahoma"/>
              </a:rPr>
              <a:t> namespace prefix and the </a:t>
            </a:r>
            <a:r>
              <a:rPr b="0" i="1" lang="en-US" sz="1800" spc="-1" strike="noStrike">
                <a:solidFill>
                  <a:srgbClr val="0070c0"/>
                </a:solidFill>
                <a:latin typeface="Tahoma"/>
              </a:rPr>
              <a:t>Envelope</a:t>
            </a:r>
            <a:r>
              <a:rPr b="0" lang="en-US" sz="1800" spc="-1" strike="noStrike">
                <a:solidFill>
                  <a:srgbClr val="0070c0"/>
                </a:solidFill>
                <a:latin typeface="Tahoma"/>
              </a:rPr>
              <a:t> eleme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ff"/>
                </a:solidFill>
                <a:latin typeface="Tahoma"/>
              </a:rPr>
              <a:t>The optional SOAP encoding is also specified using a namespace name and the optional </a:t>
            </a:r>
            <a:r>
              <a:rPr b="0" i="1" lang="en-US" sz="1800" spc="-1" strike="noStrike">
                <a:solidFill>
                  <a:srgbClr val="ff66ff"/>
                </a:solidFill>
                <a:latin typeface="Tahoma"/>
              </a:rPr>
              <a:t>encodingStyle</a:t>
            </a:r>
            <a:r>
              <a:rPr b="0" lang="en-US" sz="1800" spc="-1" strike="noStrike">
                <a:solidFill>
                  <a:srgbClr val="ff66ff"/>
                </a:solidFill>
                <a:latin typeface="Tahoma"/>
              </a:rPr>
              <a:t> element, which could also point to an encoding style other than the SOAP on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A v1.1-compliant SOAP processor will generate a fault when receiving a message containing the v1.2 envelope namespace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2d050"/>
                </a:solidFill>
                <a:latin typeface="Tahoma"/>
              </a:rPr>
              <a:t>A v1.2- compliant SOAP processor generates a </a:t>
            </a:r>
            <a:r>
              <a:rPr b="0" i="1" lang="en-US" sz="1800" spc="-1" strike="noStrike">
                <a:solidFill>
                  <a:srgbClr val="92d050"/>
                </a:solidFill>
                <a:latin typeface="Tahoma"/>
              </a:rPr>
              <a:t>VersionMismatch</a:t>
            </a:r>
            <a:r>
              <a:rPr b="0" lang="en-US" sz="1800" spc="-1" strike="noStrike">
                <a:solidFill>
                  <a:srgbClr val="92d050"/>
                </a:solidFill>
                <a:latin typeface="Tahoma"/>
              </a:rPr>
              <a:t> fault if it receives a message that does not include the v1.2 envelope namespa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8" name="Date Placeholder 3"/>
          <p:cNvSpPr/>
          <p:nvPr/>
        </p:nvSpPr>
        <p:spPr>
          <a:xfrm>
            <a:off x="533520" y="6324480"/>
            <a:ext cx="1218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ter 2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9" name="Slide Number Placeholder 4"/>
          <p:cNvSpPr/>
          <p:nvPr/>
        </p:nvSpPr>
        <p:spPr>
          <a:xfrm>
            <a:off x="7543800" y="632448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EDF34-2012-43FB-B35F-7339B730C157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0" name="Footer Placeholder 5"/>
          <p:cNvSpPr/>
          <p:nvPr/>
        </p:nvSpPr>
        <p:spPr>
          <a:xfrm>
            <a:off x="1752480" y="632448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ahoma"/>
              </a:rPr>
              <a:t>Service-Oriented Computing: Semantics, Processes, Agents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- Munindar Singh and Michael Huh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2" name=""/>
          <p:cNvSpPr txBox="1"/>
          <p:nvPr/>
        </p:nvSpPr>
        <p:spPr>
          <a:xfrm>
            <a:off x="1182600" y="1371240"/>
            <a:ext cx="7772400" cy="47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?xml version="1.0"?&gt;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SOAP-ENV:Envelope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mlns:SOAP-ENV="http://www.w3.org/2001/12/soap-envelope"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AP-ENV:encodingStyle="http://www.w3.org/2001/12/soap-encoding"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.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ssage information goes here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.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/SOAP-ENV:Envelope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3" name="Date Placeholder 3"/>
          <p:cNvSpPr/>
          <p:nvPr/>
        </p:nvSpPr>
        <p:spPr>
          <a:xfrm>
            <a:off x="533520" y="6324480"/>
            <a:ext cx="1218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ter 2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4" name="Slide Number Placeholder 4"/>
          <p:cNvSpPr/>
          <p:nvPr/>
        </p:nvSpPr>
        <p:spPr>
          <a:xfrm>
            <a:off x="7543800" y="632448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D013B-EA31-41FA-B8FF-435ED71B7651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5" name="Footer Placeholder 5"/>
          <p:cNvSpPr/>
          <p:nvPr/>
        </p:nvSpPr>
        <p:spPr>
          <a:xfrm>
            <a:off x="1752480" y="632448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ahoma"/>
              </a:rPr>
              <a:t>Service-Oriented Computing: Semantics, Processes, Agents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- Munindar Singh and Michael Huh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Date Placeholder 3"/>
          <p:cNvSpPr/>
          <p:nvPr/>
        </p:nvSpPr>
        <p:spPr>
          <a:xfrm>
            <a:off x="533520" y="6324480"/>
            <a:ext cx="1218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ter 2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7" name="Slide Number Placeholder 4"/>
          <p:cNvSpPr/>
          <p:nvPr/>
        </p:nvSpPr>
        <p:spPr>
          <a:xfrm>
            <a:off x="7543800" y="632448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50D0D-E079-41C7-8539-2BC3A75C8AFA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Footer Placeholder 5"/>
          <p:cNvSpPr/>
          <p:nvPr/>
        </p:nvSpPr>
        <p:spPr>
          <a:xfrm>
            <a:off x="1752480" y="632448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ahoma"/>
              </a:rPr>
              <a:t>Service-Oriented Computing: Semantics, Processes, Agents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- Munindar Singh and Michael Huh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. SOAP Reques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OST /temp HTTP/1.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Host: www.socweather.com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ntent-Type: text/xml; charset="utf-8"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ntent-Length: xxx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APAction: "http://www.socweather.com/temp"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ab7e"/>
                </a:solidFill>
                <a:latin typeface="Tahoma"/>
              </a:rPr>
              <a:t>&lt;!-- Above: HTTP headers and a blank line. --&g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ab7e"/>
                </a:solidFill>
                <a:latin typeface="Tahoma"/>
              </a:rPr>
              <a:t>&lt;!—These comments below: an XML document --&g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&lt;?xml version=“1.0”?&g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&lt;env:Envelop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mlns:env="http://schemas.xmlsoap.org/soap/envelope/"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v:encodingStyle="http://schemas.xmlsoap.org/soap/encoding/"/&g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&lt;env:Body&g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&lt;m:GetTemp xmlns:m="http://www.socweather.com/temp.xsd"&g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&lt;m:City&gt;Honolulu&lt;/m:City&g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&lt;m:When&gt;now&lt;/m:When&g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&lt;/m:GetTemp&g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&lt;/env:Body&g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&lt;/env:Envelope&g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Date Placeholder 3"/>
          <p:cNvSpPr/>
          <p:nvPr/>
        </p:nvSpPr>
        <p:spPr>
          <a:xfrm>
            <a:off x="533520" y="6324480"/>
            <a:ext cx="1218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ter 2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Slide Number Placeholder 4"/>
          <p:cNvSpPr/>
          <p:nvPr/>
        </p:nvSpPr>
        <p:spPr>
          <a:xfrm>
            <a:off x="7543800" y="632448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69098-DD7D-4609-8E30-74BB7386AED0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3" name="Footer Placeholder 5"/>
          <p:cNvSpPr/>
          <p:nvPr/>
        </p:nvSpPr>
        <p:spPr>
          <a:xfrm>
            <a:off x="1752480" y="632448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ahoma"/>
              </a:rPr>
              <a:t>Service-Oriented Computing: Semantics, Processes, Agents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- Munindar Singh and Michael Huh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467480" cy="672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. SOAP Respons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TTP/1.1  200 O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tent-Type: text/xml; charset="utf-8"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tent-Length: xx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APAction: "http://www.socweather.com/temp"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?xml version=</a:t>
            </a:r>
            <a:r>
              <a:rPr b="0" lang="en-US" sz="2000" spc="-1" strike="noStrike">
                <a:solidFill>
                  <a:srgbClr val="c00000"/>
                </a:solidFill>
                <a:latin typeface="Tahoma"/>
              </a:rPr>
              <a:t>"1.0"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?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env:Envelope xmlns:env=</a:t>
            </a:r>
            <a:r>
              <a:rPr b="0" lang="en-US" sz="2000" spc="-1" strike="noStrike">
                <a:solidFill>
                  <a:srgbClr val="c00000"/>
                </a:solidFill>
                <a:latin typeface="Tahoma"/>
              </a:rPr>
              <a:t>"http://schemas.xmlsoap.org/soap/envelope/"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v:encodingStyle=</a:t>
            </a:r>
            <a:r>
              <a:rPr b="0" lang="en-US" sz="2000" spc="-1" strike="noStrike">
                <a:solidFill>
                  <a:srgbClr val="c00000"/>
                </a:solidFill>
                <a:latin typeface="Tahoma"/>
              </a:rPr>
              <a:t>"http://schemas.xmlsoap.org/soap/encoding/"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/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env:Body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m:GetTempRespons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   xmlns:m=</a:t>
            </a:r>
            <a:r>
              <a:rPr b="0" lang="en-US" sz="2000" spc="-1" strike="noStrike">
                <a:solidFill>
                  <a:srgbClr val="c00000"/>
                </a:solidFill>
                <a:latin typeface="Tahoma"/>
              </a:rPr>
              <a:t>"http://www.socweather.com/temp.xsd"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m:DegreesCelsius&gt;30&lt;/m:DegreesCelsius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/m:GetTempResponse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/env:Body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/env:Envelope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OAP Faul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7" name=""/>
          <p:cNvSpPr txBox="1"/>
          <p:nvPr/>
        </p:nvSpPr>
        <p:spPr>
          <a:xfrm>
            <a:off x="533160" y="1371240"/>
            <a:ext cx="8421480" cy="47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e SOAP fault mechanism returns specific information about the error, including a predefined code, a description, the address of the SOAP processor that generat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 SOAP Message can carry only one fault block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ault element is an optional part of SOAP Messag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r the HTTP binding, a successful response is linked to the 200 to 299 range of status codes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AP fault is linked to the 500 to 599 range of status codes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Date Placeholder 3"/>
          <p:cNvSpPr/>
          <p:nvPr/>
        </p:nvSpPr>
        <p:spPr>
          <a:xfrm>
            <a:off x="533520" y="6324480"/>
            <a:ext cx="1218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ter 2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9" name="Slide Number Placeholder 4"/>
          <p:cNvSpPr/>
          <p:nvPr/>
        </p:nvSpPr>
        <p:spPr>
          <a:xfrm>
            <a:off x="7543800" y="632448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B692C-D1D3-4807-B97E-7CBBE26D5F99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0" name="Footer Placeholder 5"/>
          <p:cNvSpPr/>
          <p:nvPr/>
        </p:nvSpPr>
        <p:spPr>
          <a:xfrm>
            <a:off x="1752480" y="632448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ahoma"/>
              </a:rPr>
              <a:t>Service-Oriented Computing: Semantics, Processes, Agents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- Munindar Singh and Michael Huh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ult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2" name=""/>
          <p:cNvSpPr txBox="1"/>
          <p:nvPr/>
        </p:nvSpPr>
        <p:spPr>
          <a:xfrm>
            <a:off x="1182600" y="1066320"/>
            <a:ext cx="7772400" cy="47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?xml version='1.0' encoding='UTF-8'?&gt;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SOAP-ENV:Envelope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xmlns:SOAP-ENV="http://schemas.xmlsoap.org/soap/envelope/" xmlns:xsi="http://www.w3.org/1999/XMLSchema-instance" xmlns:xsd="http://www.w3.org/1999/XMLSchema"&gt;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SOAP-ENV:Body&gt;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SOAP-ENV:Fault&gt;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faultcode xsi:type="xsd:string"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AP-ENV:Cli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/faultcode&gt;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faultstring xsi:type="xsd:string"&gt;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ailed to locate method (ValidateCreditCard) in class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examplesCreditCard) at /usr/local/ActivePerl-5.6/lib/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te_perl/5.6.0/SOAP/Lite.pm line 1555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/faultstring&gt;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/SOAP-ENV:Fault&gt;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/SOAP-ENV:Body&gt;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/SOAP-ENV:Envelope&gt;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Date Placeholder 3"/>
          <p:cNvSpPr/>
          <p:nvPr/>
        </p:nvSpPr>
        <p:spPr>
          <a:xfrm>
            <a:off x="533520" y="6324480"/>
            <a:ext cx="1218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ter 2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8" name="Slide Number Placeholder 4"/>
          <p:cNvSpPr/>
          <p:nvPr/>
        </p:nvSpPr>
        <p:spPr>
          <a:xfrm>
            <a:off x="7543800" y="632448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53919-2A39-46EA-B83F-5D25495E115A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9" name="Footer Placeholder 5"/>
          <p:cNvSpPr/>
          <p:nvPr/>
        </p:nvSpPr>
        <p:spPr>
          <a:xfrm>
            <a:off x="1752480" y="632448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ahoma"/>
              </a:rPr>
              <a:t>Service-Oriented Computing: Semantics, Processes, Agents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- Munindar Singh and Michael Huh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ghligh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1117440" y="1258560"/>
            <a:ext cx="7772400" cy="47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ble Markup Language (XML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ahoma"/>
              </a:rPr>
              <a:t>Simple Object Access Protocol (SOAP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Tahoma"/>
              </a:rPr>
              <a:t>Web Services Description Language (WSDL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Tahoma"/>
              </a:rPr>
              <a:t>Directory Servi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ff"/>
                </a:solidFill>
                <a:latin typeface="Tahoma"/>
              </a:rPr>
              <a:t>Universal Description, Discovery, and Integration (UDDI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Date Placeholder 3"/>
          <p:cNvSpPr/>
          <p:nvPr/>
        </p:nvSpPr>
        <p:spPr>
          <a:xfrm>
            <a:off x="533520" y="6324480"/>
            <a:ext cx="1218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ter 2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4" name="Slide Number Placeholder 4"/>
          <p:cNvSpPr/>
          <p:nvPr/>
        </p:nvSpPr>
        <p:spPr>
          <a:xfrm>
            <a:off x="7543800" y="632448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CCEDF-4F15-4145-BFF1-80BAD6152B03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5" name="Footer Placeholder 5"/>
          <p:cNvSpPr/>
          <p:nvPr/>
        </p:nvSpPr>
        <p:spPr>
          <a:xfrm>
            <a:off x="1752480" y="632448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ahoma"/>
              </a:rPr>
              <a:t>Service-Oriented Computing: Semantics, Processes, Agents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- Munindar Singh and Michael Huh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WSDL: Web Services Descrip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cribes a programmatic interface to a Web service, inclu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itions of data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put and output message forma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operations provided by th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bin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SDL stru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9" name=""/>
          <p:cNvSpPr txBox="1"/>
          <p:nvPr/>
        </p:nvSpPr>
        <p:spPr>
          <a:xfrm>
            <a:off x="1182600" y="1371240"/>
            <a:ext cx="7772400" cy="47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&lt;definitions&gt;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&lt;types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  definition of types.......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&lt;/types&gt;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&lt;message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  definition of a message...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&lt;/message&gt;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&lt;portType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  definition of a port......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&lt;/portType&gt;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&lt;binding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  definition of a binding...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&lt;/binding&gt;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&lt;/definitions&g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Date Placeholder 3"/>
          <p:cNvSpPr/>
          <p:nvPr/>
        </p:nvSpPr>
        <p:spPr>
          <a:xfrm>
            <a:off x="533520" y="6324480"/>
            <a:ext cx="1218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ter 2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1" name="Slide Number Placeholder 4"/>
          <p:cNvSpPr/>
          <p:nvPr/>
        </p:nvSpPr>
        <p:spPr>
          <a:xfrm>
            <a:off x="7543800" y="632448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B4BF1-0255-4EE4-B5E2-28F3B3B112E0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2" name="Footer Placeholder 5"/>
          <p:cNvSpPr/>
          <p:nvPr/>
        </p:nvSpPr>
        <p:spPr>
          <a:xfrm>
            <a:off x="1752480" y="632448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ahoma"/>
              </a:rPr>
              <a:t>Service-Oriented Computing: Semantics, Processes, Agents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- Munindar Singh and Michael Huh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A WSDL document describes a web service using these major elements:</a:t>
            </a:r>
            <a:br>
              <a:rPr sz="3200"/>
            </a:b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694" name=""/>
          <p:cNvGraphicFramePr/>
          <p:nvPr/>
        </p:nvGraphicFramePr>
        <p:xfrm>
          <a:off x="990720" y="1752480"/>
          <a:ext cx="7696080" cy="4038840"/>
        </p:xfrm>
        <a:graphic>
          <a:graphicData uri="http://schemas.openxmlformats.org/drawingml/2006/table">
            <a:tbl>
              <a:tblPr/>
              <a:tblGrid>
                <a:gridCol w="1539720"/>
                <a:gridCol w="6156360"/>
              </a:tblGrid>
              <a:tr h="689040">
                <a:tc>
                  <a:txBody>
                    <a:bodyPr lIns="23040" rIns="23040" tIns="23040" bIns="230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le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23040" marR="23040">
                    <a:lnL w="3600">
                      <a:solidFill>
                        <a:srgbClr val="c3c3c3"/>
                      </a:solidFill>
                    </a:lnL>
                    <a:lnR w="3600">
                      <a:solidFill>
                        <a:srgbClr val="c3c3c3"/>
                      </a:solidFill>
                    </a:lnR>
                    <a:lnT w="3600">
                      <a:solidFill>
                        <a:srgbClr val="c3c3c3"/>
                      </a:solidFill>
                    </a:lnT>
                    <a:lnB w="3600">
                      <a:solidFill>
                        <a:srgbClr val="c3c3c3"/>
                      </a:solidFill>
                    </a:lnB>
                    <a:solidFill>
                      <a:srgbClr val="e5eecc"/>
                    </a:solidFill>
                  </a:tcPr>
                </a:tc>
                <a:tc>
                  <a:txBody>
                    <a:bodyPr lIns="23040" rIns="23040" tIns="23040" bIns="230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fin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23040" marR="23040">
                    <a:lnL w="3600">
                      <a:solidFill>
                        <a:srgbClr val="c3c3c3"/>
                      </a:solidFill>
                    </a:lnL>
                    <a:lnR w="3600">
                      <a:solidFill>
                        <a:srgbClr val="c3c3c3"/>
                      </a:solidFill>
                    </a:lnR>
                    <a:lnT w="3600">
                      <a:solidFill>
                        <a:srgbClr val="c3c3c3"/>
                      </a:solidFill>
                    </a:lnT>
                    <a:lnB w="3600">
                      <a:solidFill>
                        <a:srgbClr val="c3c3c3"/>
                      </a:solidFill>
                    </a:lnB>
                    <a:solidFill>
                      <a:srgbClr val="e5eecc"/>
                    </a:solidFill>
                  </a:tcPr>
                </a:tc>
              </a:tr>
              <a:tr h="690480">
                <a:tc>
                  <a:txBody>
                    <a:bodyPr lIns="23040" rIns="23040" tIns="23040" bIns="230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&lt;types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040" marR="23040">
                    <a:lnL w="3600">
                      <a:solidFill>
                        <a:srgbClr val="c3c3c3"/>
                      </a:solidFill>
                    </a:lnL>
                    <a:lnR w="3600">
                      <a:solidFill>
                        <a:srgbClr val="c3c3c3"/>
                      </a:solidFill>
                    </a:lnR>
                    <a:lnT w="3600">
                      <a:solidFill>
                        <a:srgbClr val="c3c3c3"/>
                      </a:solidFill>
                    </a:lnT>
                    <a:lnB w="3600">
                      <a:solidFill>
                        <a:srgbClr val="c3c3c3"/>
                      </a:solidFill>
                    </a:lnB>
                    <a:noFill/>
                  </a:tcPr>
                </a:tc>
                <a:tc>
                  <a:txBody>
                    <a:bodyPr lIns="23040" rIns="23040" tIns="23040" bIns="230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data types used by the web servi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040" marR="23040">
                    <a:lnL w="3600">
                      <a:solidFill>
                        <a:srgbClr val="c3c3c3"/>
                      </a:solidFill>
                    </a:lnL>
                    <a:lnR w="3600">
                      <a:solidFill>
                        <a:srgbClr val="c3c3c3"/>
                      </a:solidFill>
                    </a:lnR>
                    <a:lnT w="3600">
                      <a:solidFill>
                        <a:srgbClr val="c3c3c3"/>
                      </a:solidFill>
                    </a:lnT>
                    <a:lnB w="3600">
                      <a:solidFill>
                        <a:srgbClr val="c3c3c3"/>
                      </a:solidFill>
                    </a:lnB>
                    <a:noFill/>
                  </a:tcPr>
                </a:tc>
              </a:tr>
              <a:tr h="689040">
                <a:tc>
                  <a:txBody>
                    <a:bodyPr lIns="23040" rIns="23040" tIns="23040" bIns="230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&lt;message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040" marR="23040">
                    <a:lnL w="3600">
                      <a:solidFill>
                        <a:srgbClr val="c3c3c3"/>
                      </a:solidFill>
                    </a:lnL>
                    <a:lnR w="3600">
                      <a:solidFill>
                        <a:srgbClr val="c3c3c3"/>
                      </a:solidFill>
                    </a:lnR>
                    <a:lnT w="3600">
                      <a:solidFill>
                        <a:srgbClr val="c3c3c3"/>
                      </a:solidFill>
                    </a:lnT>
                    <a:lnB w="3600">
                      <a:solidFill>
                        <a:srgbClr val="c3c3c3"/>
                      </a:solidFill>
                    </a:lnB>
                    <a:noFill/>
                  </a:tcPr>
                </a:tc>
                <a:tc>
                  <a:txBody>
                    <a:bodyPr lIns="23040" rIns="23040" tIns="23040" bIns="230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messages used by the web servi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040" marR="23040">
                    <a:lnL w="3600">
                      <a:solidFill>
                        <a:srgbClr val="c3c3c3"/>
                      </a:solidFill>
                    </a:lnL>
                    <a:lnR w="3600">
                      <a:solidFill>
                        <a:srgbClr val="c3c3c3"/>
                      </a:solidFill>
                    </a:lnR>
                    <a:lnT w="3600">
                      <a:solidFill>
                        <a:srgbClr val="c3c3c3"/>
                      </a:solidFill>
                    </a:lnT>
                    <a:lnB w="3600">
                      <a:solidFill>
                        <a:srgbClr val="c3c3c3"/>
                      </a:solidFill>
                    </a:lnB>
                    <a:noFill/>
                  </a:tcPr>
                </a:tc>
              </a:tr>
              <a:tr h="689040">
                <a:tc>
                  <a:txBody>
                    <a:bodyPr lIns="23040" rIns="23040" tIns="23040" bIns="230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&lt;portType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040" marR="23040">
                    <a:lnL w="3600">
                      <a:solidFill>
                        <a:srgbClr val="c3c3c3"/>
                      </a:solidFill>
                    </a:lnL>
                    <a:lnR w="3600">
                      <a:solidFill>
                        <a:srgbClr val="c3c3c3"/>
                      </a:solidFill>
                    </a:lnR>
                    <a:lnT w="3600">
                      <a:solidFill>
                        <a:srgbClr val="c3c3c3"/>
                      </a:solidFill>
                    </a:lnT>
                    <a:lnB w="3600">
                      <a:solidFill>
                        <a:srgbClr val="c3c3c3"/>
                      </a:solidFill>
                    </a:lnB>
                    <a:noFill/>
                  </a:tcPr>
                </a:tc>
                <a:tc>
                  <a:txBody>
                    <a:bodyPr lIns="23040" rIns="23040" tIns="23040" bIns="230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operations performed by the web servi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040" marR="23040">
                    <a:lnL w="3600">
                      <a:solidFill>
                        <a:srgbClr val="c3c3c3"/>
                      </a:solidFill>
                    </a:lnL>
                    <a:lnR w="3600">
                      <a:solidFill>
                        <a:srgbClr val="c3c3c3"/>
                      </a:solidFill>
                    </a:lnR>
                    <a:lnT w="3600">
                      <a:solidFill>
                        <a:srgbClr val="c3c3c3"/>
                      </a:solidFill>
                    </a:lnT>
                    <a:lnB w="3600">
                      <a:solidFill>
                        <a:srgbClr val="c3c3c3"/>
                      </a:solidFill>
                    </a:lnB>
                    <a:noFill/>
                  </a:tcPr>
                </a:tc>
              </a:tr>
              <a:tr h="1281240">
                <a:tc>
                  <a:txBody>
                    <a:bodyPr lIns="23040" rIns="23040" tIns="23040" bIns="230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&lt;binding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040" marR="23040">
                    <a:lnL w="3600">
                      <a:solidFill>
                        <a:srgbClr val="c3c3c3"/>
                      </a:solidFill>
                    </a:lnL>
                    <a:lnR w="3600">
                      <a:solidFill>
                        <a:srgbClr val="c3c3c3"/>
                      </a:solidFill>
                    </a:lnR>
                    <a:lnT w="3600">
                      <a:solidFill>
                        <a:srgbClr val="c3c3c3"/>
                      </a:solidFill>
                    </a:lnT>
                    <a:lnB w="3600">
                      <a:solidFill>
                        <a:srgbClr val="c3c3c3"/>
                      </a:solidFill>
                    </a:lnB>
                    <a:noFill/>
                  </a:tcPr>
                </a:tc>
                <a:tc>
                  <a:txBody>
                    <a:bodyPr lIns="23040" rIns="23040" tIns="23040" bIns="230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communication protocols used by the web servi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040" marR="23040">
                    <a:lnL w="3600">
                      <a:solidFill>
                        <a:srgbClr val="c3c3c3"/>
                      </a:solidFill>
                    </a:lnL>
                    <a:lnR w="3600">
                      <a:solidFill>
                        <a:srgbClr val="c3c3c3"/>
                      </a:solidFill>
                    </a:lnR>
                    <a:lnT w="3600">
                      <a:solidFill>
                        <a:srgbClr val="c3c3c3"/>
                      </a:solidFill>
                    </a:lnT>
                    <a:lnB w="3600">
                      <a:solidFill>
                        <a:srgbClr val="c3c3c3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5" name="Date Placeholder 3"/>
          <p:cNvSpPr/>
          <p:nvPr/>
        </p:nvSpPr>
        <p:spPr>
          <a:xfrm>
            <a:off x="533520" y="6324480"/>
            <a:ext cx="1218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ter 2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Slide Number Placeholder 4"/>
          <p:cNvSpPr/>
          <p:nvPr/>
        </p:nvSpPr>
        <p:spPr>
          <a:xfrm>
            <a:off x="7543800" y="632448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116B2-28FA-41C0-BD74-E65201BD4A5E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7" name="Footer Placeholder 5"/>
          <p:cNvSpPr/>
          <p:nvPr/>
        </p:nvSpPr>
        <p:spPr>
          <a:xfrm>
            <a:off x="1752480" y="632448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ahoma"/>
              </a:rPr>
              <a:t>Service-Oriented Computing: Semantics, Processes, Agents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- Munindar Singh and Michael Huh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SDL Por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9" name=""/>
          <p:cNvSpPr txBox="1"/>
          <p:nvPr/>
        </p:nvSpPr>
        <p:spPr>
          <a:xfrm>
            <a:off x="1182600" y="1143000"/>
            <a:ext cx="777240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he 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&lt;portType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 element is the most important WSDL element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3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t describes a web service, the operations that can be performed, and the messages that are involved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3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&lt;portType&gt; element can be compared to a function library (or a module, or a class) in a traditional programming language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SDL Messag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3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 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&lt;message&gt;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element defines the data elements of an operation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3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ach message can consist of one or more parts. The parts can be compared to the parameters of a function call in a traditional programming language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3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SDL Type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he 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&lt;types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 element defines the data types that are used by the web service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3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For maximum platform neutrality, WSDL uses XML Schema syntax to define data types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SDL Binding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he 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&lt;binding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 element defines the message format and protocol details for each port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0" name="Date Placeholder 3"/>
          <p:cNvSpPr/>
          <p:nvPr/>
        </p:nvSpPr>
        <p:spPr>
          <a:xfrm>
            <a:off x="533520" y="6324480"/>
            <a:ext cx="1218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ter 2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1" name="Slide Number Placeholder 4"/>
          <p:cNvSpPr/>
          <p:nvPr/>
        </p:nvSpPr>
        <p:spPr>
          <a:xfrm>
            <a:off x="7543800" y="632448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234FB-1303-4384-B097-E3C78FB0D1AB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Footer Placeholder 5"/>
          <p:cNvSpPr/>
          <p:nvPr/>
        </p:nvSpPr>
        <p:spPr>
          <a:xfrm>
            <a:off x="1752480" y="632448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ahoma"/>
              </a:rPr>
              <a:t>Service-Oriented Computing: Semantics, Processes, Agents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- Munindar Singh and Michael Huh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S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4" name=""/>
          <p:cNvSpPr txBox="1"/>
          <p:nvPr/>
        </p:nvSpPr>
        <p:spPr>
          <a:xfrm>
            <a:off x="1182600" y="1371240"/>
            <a:ext cx="7772400" cy="47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message name="getTermRequest"&gt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 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part name="term" type="xs:string"/&gt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/message&gt;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message name="getTermResponse"&gt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 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part name="value" type="xs:string"/&gt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/message&gt;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portType name="glossaryTerms"&gt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 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operation name="getTerm"&gt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   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input message="getTermRequest"/&gt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   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output message="getTermResponse"/&gt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 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/operation&gt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/portType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5" name="Date Placeholder 3"/>
          <p:cNvSpPr/>
          <p:nvPr/>
        </p:nvSpPr>
        <p:spPr>
          <a:xfrm>
            <a:off x="533520" y="6324480"/>
            <a:ext cx="1218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ter 2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6" name="Slide Number Placeholder 4"/>
          <p:cNvSpPr/>
          <p:nvPr/>
        </p:nvSpPr>
        <p:spPr>
          <a:xfrm>
            <a:off x="7543800" y="632448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7F392-794B-453D-ACAA-20F544BFF6C8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7" name="Footer Placeholder 5"/>
          <p:cNvSpPr/>
          <p:nvPr/>
        </p:nvSpPr>
        <p:spPr>
          <a:xfrm>
            <a:off x="1752480" y="632448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ahoma"/>
              </a:rPr>
              <a:t>Service-Oriented Computing: Semantics, Processes, Agents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- Munindar Singh and Michael Huh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rtType Oper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709" name=""/>
          <p:cNvGraphicFramePr/>
          <p:nvPr/>
        </p:nvGraphicFramePr>
        <p:xfrm>
          <a:off x="457200" y="1905120"/>
          <a:ext cx="7772400" cy="2754360"/>
        </p:xfrm>
        <a:graphic>
          <a:graphicData uri="http://schemas.openxmlformats.org/drawingml/2006/table">
            <a:tbl>
              <a:tblPr/>
              <a:tblGrid>
                <a:gridCol w="2332080"/>
                <a:gridCol w="5440320"/>
              </a:tblGrid>
              <a:tr h="331560">
                <a:tc>
                  <a:txBody>
                    <a:bodyPr lIns="28440" rIns="28440" tIns="28440" bIns="28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8440" marR="28440">
                    <a:lnL w="4320">
                      <a:solidFill>
                        <a:srgbClr val="c3c3c3"/>
                      </a:solidFill>
                    </a:lnL>
                    <a:lnR w="4320">
                      <a:solidFill>
                        <a:srgbClr val="c3c3c3"/>
                      </a:solidFill>
                    </a:lnR>
                    <a:lnT w="4320">
                      <a:solidFill>
                        <a:srgbClr val="c3c3c3"/>
                      </a:solidFill>
                    </a:lnT>
                    <a:lnB w="4320">
                      <a:solidFill>
                        <a:srgbClr val="c3c3c3"/>
                      </a:solidFill>
                    </a:lnB>
                    <a:solidFill>
                      <a:srgbClr val="e5eecc"/>
                    </a:solidFill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fini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8440" marR="28440">
                    <a:lnL w="4320">
                      <a:solidFill>
                        <a:srgbClr val="c3c3c3"/>
                      </a:solidFill>
                    </a:lnL>
                    <a:lnR w="4320">
                      <a:solidFill>
                        <a:srgbClr val="c3c3c3"/>
                      </a:solidFill>
                    </a:lnR>
                    <a:lnT w="4320">
                      <a:solidFill>
                        <a:srgbClr val="c3c3c3"/>
                      </a:solidFill>
                    </a:lnT>
                    <a:lnB w="4320">
                      <a:solidFill>
                        <a:srgbClr val="c3c3c3"/>
                      </a:solidFill>
                    </a:lnB>
                    <a:solidFill>
                      <a:srgbClr val="e5eecc"/>
                    </a:solidFill>
                  </a:tcPr>
                </a:tc>
              </a:tr>
              <a:tr h="605880">
                <a:tc>
                  <a:txBody>
                    <a:bodyPr lIns="28440" rIns="28440" tIns="28440" bIns="28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ne-w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8440" marR="28440">
                    <a:lnL w="4320">
                      <a:solidFill>
                        <a:srgbClr val="c3c3c3"/>
                      </a:solidFill>
                    </a:lnL>
                    <a:lnR w="4320">
                      <a:solidFill>
                        <a:srgbClr val="c3c3c3"/>
                      </a:solidFill>
                    </a:lnR>
                    <a:lnT w="4320">
                      <a:solidFill>
                        <a:srgbClr val="c3c3c3"/>
                      </a:solidFill>
                    </a:lnT>
                    <a:lnB w="4320">
                      <a:solidFill>
                        <a:srgbClr val="c3c3c3"/>
                      </a:solidFill>
                    </a:lnB>
                    <a:noFill/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operation can receive a message but will not return a respon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8440" marR="28440">
                    <a:lnL w="4320">
                      <a:solidFill>
                        <a:srgbClr val="c3c3c3"/>
                      </a:solidFill>
                    </a:lnL>
                    <a:lnR w="4320">
                      <a:solidFill>
                        <a:srgbClr val="c3c3c3"/>
                      </a:solidFill>
                    </a:lnR>
                    <a:lnT w="4320">
                      <a:solidFill>
                        <a:srgbClr val="c3c3c3"/>
                      </a:solidFill>
                    </a:lnT>
                    <a:lnB w="4320">
                      <a:solidFill>
                        <a:srgbClr val="c3c3c3"/>
                      </a:solidFill>
                    </a:lnB>
                    <a:noFill/>
                  </a:tcPr>
                </a:tc>
              </a:tr>
              <a:tr h="605880">
                <a:tc>
                  <a:txBody>
                    <a:bodyPr lIns="28440" rIns="28440" tIns="28440" bIns="28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quest-respon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8440" marR="28440">
                    <a:lnL w="4320">
                      <a:solidFill>
                        <a:srgbClr val="c3c3c3"/>
                      </a:solidFill>
                    </a:lnL>
                    <a:lnR w="4320">
                      <a:solidFill>
                        <a:srgbClr val="c3c3c3"/>
                      </a:solidFill>
                    </a:lnR>
                    <a:lnT w="4320">
                      <a:solidFill>
                        <a:srgbClr val="c3c3c3"/>
                      </a:solidFill>
                    </a:lnT>
                    <a:lnB w="4320">
                      <a:solidFill>
                        <a:srgbClr val="c3c3c3"/>
                      </a:solidFill>
                    </a:lnB>
                    <a:noFill/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operation can receive a request and will return a respon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8440" marR="28440">
                    <a:lnL w="4320">
                      <a:solidFill>
                        <a:srgbClr val="c3c3c3"/>
                      </a:solidFill>
                    </a:lnL>
                    <a:lnR w="4320">
                      <a:solidFill>
                        <a:srgbClr val="c3c3c3"/>
                      </a:solidFill>
                    </a:lnR>
                    <a:lnT w="4320">
                      <a:solidFill>
                        <a:srgbClr val="c3c3c3"/>
                      </a:solidFill>
                    </a:lnT>
                    <a:lnB w="4320">
                      <a:solidFill>
                        <a:srgbClr val="c3c3c3"/>
                      </a:solidFill>
                    </a:lnB>
                    <a:noFill/>
                  </a:tcPr>
                </a:tc>
              </a:tr>
              <a:tr h="605880">
                <a:tc>
                  <a:txBody>
                    <a:bodyPr lIns="28440" rIns="28440" tIns="28440" bIns="28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olicit-respon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8440" marR="28440">
                    <a:lnL w="4320">
                      <a:solidFill>
                        <a:srgbClr val="c3c3c3"/>
                      </a:solidFill>
                    </a:lnL>
                    <a:lnR w="4320">
                      <a:solidFill>
                        <a:srgbClr val="c3c3c3"/>
                      </a:solidFill>
                    </a:lnR>
                    <a:lnT w="4320">
                      <a:solidFill>
                        <a:srgbClr val="c3c3c3"/>
                      </a:solidFill>
                    </a:lnT>
                    <a:lnB w="4320">
                      <a:solidFill>
                        <a:srgbClr val="c3c3c3"/>
                      </a:solidFill>
                    </a:lnB>
                    <a:noFill/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operation can send a request and will wait for a respon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8440" marR="28440">
                    <a:lnL w="4320">
                      <a:solidFill>
                        <a:srgbClr val="c3c3c3"/>
                      </a:solidFill>
                    </a:lnL>
                    <a:lnR w="4320">
                      <a:solidFill>
                        <a:srgbClr val="c3c3c3"/>
                      </a:solidFill>
                    </a:lnR>
                    <a:lnT w="4320">
                      <a:solidFill>
                        <a:srgbClr val="c3c3c3"/>
                      </a:solidFill>
                    </a:lnT>
                    <a:lnB w="4320">
                      <a:solidFill>
                        <a:srgbClr val="c3c3c3"/>
                      </a:solidFill>
                    </a:lnB>
                    <a:noFill/>
                  </a:tcPr>
                </a:tc>
              </a:tr>
              <a:tr h="605880">
                <a:tc>
                  <a:txBody>
                    <a:bodyPr lIns="28440" rIns="28440" tIns="28440" bIns="28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ific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8440" marR="28440">
                    <a:lnL w="4320">
                      <a:solidFill>
                        <a:srgbClr val="c3c3c3"/>
                      </a:solidFill>
                    </a:lnL>
                    <a:lnR w="4320">
                      <a:solidFill>
                        <a:srgbClr val="c3c3c3"/>
                      </a:solidFill>
                    </a:lnR>
                    <a:lnT w="4320">
                      <a:solidFill>
                        <a:srgbClr val="c3c3c3"/>
                      </a:solidFill>
                    </a:lnT>
                    <a:lnB w="4320">
                      <a:solidFill>
                        <a:srgbClr val="c3c3c3"/>
                      </a:solidFill>
                    </a:lnB>
                    <a:noFill/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operation can send a message but will not wait for a respon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8440" marR="28440">
                    <a:lnL w="4320">
                      <a:solidFill>
                        <a:srgbClr val="c3c3c3"/>
                      </a:solidFill>
                    </a:lnL>
                    <a:lnR w="4320">
                      <a:solidFill>
                        <a:srgbClr val="c3c3c3"/>
                      </a:solidFill>
                    </a:lnR>
                    <a:lnT w="4320">
                      <a:solidFill>
                        <a:srgbClr val="c3c3c3"/>
                      </a:solidFill>
                    </a:lnT>
                    <a:lnB w="4320">
                      <a:solidFill>
                        <a:srgbClr val="c3c3c3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10" name="Date Placeholder 3"/>
          <p:cNvSpPr/>
          <p:nvPr/>
        </p:nvSpPr>
        <p:spPr>
          <a:xfrm>
            <a:off x="533520" y="6324480"/>
            <a:ext cx="1218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ter 2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1" name="Slide Number Placeholder 4"/>
          <p:cNvSpPr/>
          <p:nvPr/>
        </p:nvSpPr>
        <p:spPr>
          <a:xfrm>
            <a:off x="7543800" y="632448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F5DF5-B85B-4457-9177-2715B605F32B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2" name="Footer Placeholder 5"/>
          <p:cNvSpPr/>
          <p:nvPr/>
        </p:nvSpPr>
        <p:spPr>
          <a:xfrm>
            <a:off x="1752480" y="632448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ahoma"/>
              </a:rPr>
              <a:t>Service-Oriented Computing: Semantics, Processes, Agents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- Munindar Singh and Michael Huh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3" name="Rectangle 1"/>
          <p:cNvSpPr/>
          <p:nvPr/>
        </p:nvSpPr>
        <p:spPr>
          <a:xfrm>
            <a:off x="5664240" y="2023200"/>
            <a:ext cx="18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5" name=""/>
          <p:cNvSpPr txBox="1"/>
          <p:nvPr/>
        </p:nvSpPr>
        <p:spPr>
          <a:xfrm>
            <a:off x="533520" y="12949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&lt;?xml version="1.0"?&g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&lt;!-- the root element, wsdl:definitions, defines a set of --&g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&lt;!-- related services --&g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&lt;wsdl:definitions name="Temperature"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Namespace="http://www.socweather.com/schema"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mlns:ts="http://www.socweather.com/TempSvc.wsdl"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mlns:tsxsd="http://schemas.socweather.com/TempSvc.xsd"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mlns:soap="http://schemas.xmlsoap.org/wsdl/soap/"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mlns:wsdl="http://schemas.xmlsoap.org/wsdl/"&g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&lt;!-- wsdl:types encapsulates schema definitions of --&g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&lt;!-- communication types; here using xsd --&g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&lt;wsdl:types&g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&lt;!-- all type declarations are expressed in xsd --&g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&lt;xsd:schem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Namespace="http://namespaces.socweather.com"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mlns:xsd="http://www.w3.org/1999/XMLSchema"&g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7" name=""/>
          <p:cNvSpPr txBox="1"/>
          <p:nvPr/>
        </p:nvSpPr>
        <p:spPr>
          <a:xfrm>
            <a:off x="380880" y="1410840"/>
            <a:ext cx="8305920" cy="47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!-- xsd def: GetTemp [City string, When string] --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xsd:element name="GetTemp"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xsd:complexType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xsd:sequence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xsd:element name="City" type="string"/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xsd:element name="When" type="string"/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/xsd:sequence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/xsd:complexType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/xsd:element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!-- xsd def: GetTempResponse [DegreesCelsius integer] --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xsd:element name="GetTempResponse"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!-- XML Schema entry as above --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/xsd:element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!-- xsd def: GetTempFault [errorMessage string] --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xsd:element name="GetTempFault"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!-- XML Schema entry as above --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/xsd:element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/xsd:schema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/wsdl:types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9" name=""/>
          <p:cNvSpPr txBox="1"/>
          <p:nvPr/>
        </p:nvSpPr>
        <p:spPr>
          <a:xfrm>
            <a:off x="533160" y="1487160"/>
            <a:ext cx="8421480" cy="47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!-- wsdl:message elements describe potential transactions --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!-- Most messages, as here, have only one part.  Multiple --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!-- parts provide a way to aggregate complex messages --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!-- request GetTempRequest is of type GetTemp --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wsdl:message name="GetTempRequest"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wsdl:part name="body" element="tsxsd:GetTemp"/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/wsdl:message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!-- response GetTempResponse is of type GetTempResponse --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wsdl:message name="GetTempResponse"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wsdl:part name="body" element="tsxsd:GetTempResponse"/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/wsdl:message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!-- wsdl:portType describes messages in an operation --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wsdl:portType name="GetTempPortType"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1" name=""/>
          <p:cNvSpPr txBox="1"/>
          <p:nvPr/>
        </p:nvSpPr>
        <p:spPr>
          <a:xfrm>
            <a:off x="380520" y="1487160"/>
            <a:ext cx="8574120" cy="47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&lt;!-- wsdl:operation describes the entire protocol from --&g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&lt;!-- input to output or fault --&g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&lt;wsdl:operation name="GetTemp"&g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&lt;!-- The order input preceding output indicates the --&g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&lt;!-- request-response operation type --&g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&lt;wsdl:input message="ts:GetTempRequest"/&g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&lt;wsdl:output message="ts:GetTempResponse"/&g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&lt;wsdl:fault message="ts:GetTempFault"/&g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&lt;/wsdl:operation&g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&lt;/wsdl:portType&g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&lt;!-- wsdl:binding specifies a serialization protocol --&g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&lt;wsdl:binding name="TempSvcSoapBinding"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ype="ts:GetTempPortType"&g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Date Placeholder 3"/>
          <p:cNvSpPr/>
          <p:nvPr/>
        </p:nvSpPr>
        <p:spPr>
          <a:xfrm>
            <a:off x="533520" y="6324480"/>
            <a:ext cx="1218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ter 2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3" name="Slide Number Placeholder 4"/>
          <p:cNvSpPr/>
          <p:nvPr/>
        </p:nvSpPr>
        <p:spPr>
          <a:xfrm>
            <a:off x="7543800" y="632448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1AFE3-0998-4750-BAD4-36370494B48D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4" name="Footer Placeholder 5"/>
          <p:cNvSpPr/>
          <p:nvPr/>
        </p:nvSpPr>
        <p:spPr>
          <a:xfrm>
            <a:off x="1752480" y="632448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ahoma"/>
              </a:rPr>
              <a:t>Service-Oriented Computing: Semantics, Processes, Agents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- Munindar Singh and Michael Huh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Profile (BP 1.0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1182600" y="1371240"/>
            <a:ext cx="7772400" cy="47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Web Services Interoperability Organization (WS-I) has specified the following Basic Profile version 1.0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AP 1.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 1.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ML 1.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ML Schema Parts 1 and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DDI Version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SDL 1.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3" name=""/>
          <p:cNvSpPr txBox="1"/>
          <p:nvPr/>
        </p:nvSpPr>
        <p:spPr>
          <a:xfrm>
            <a:off x="1182600" y="1371240"/>
            <a:ext cx="7772400" cy="47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!-- leverage off soap:binding document style --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soap:binding style="document"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port="http://schemas.xmlsoap.org/soap/http"/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!-- semi-opaque container of network transport details --&gt;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!-- classed by soap:binding above @@@ --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wsdl:operation name="GetTemp"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soap:operat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oapAction="http://www.socweather.com/TempSvc"/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!-- further specify that the messages in the --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!--  wsdl:operation "GetTemp" use SOAP? @@@ --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wsdl:input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soap:body use="literal"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amespace="http://schemas.socweather.com/TempSvc.xsd"/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/wsdl:input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5" name=""/>
          <p:cNvSpPr txBox="1"/>
          <p:nvPr/>
        </p:nvSpPr>
        <p:spPr>
          <a:xfrm>
            <a:off x="533160" y="1371240"/>
            <a:ext cx="8421480" cy="47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!-- As above for wsdl:output and wsdl:fault --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/wsdl:operation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/wsdl:binding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!-- wsdl:service names a new service "TemperatureService" --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wsdl:service name="TemperatureService"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wsdl:documentation&gt;socweather.com temperature servic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/wsdl:documentation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!-- connect it to the binding "TempSvcSoapBinding" above --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wsdl:port name="GetTempPort" binding="ts:TempSvcSoapBinding"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!-- give the binding a network address --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soap:address location="http://www.socweather.com/TempSvc"/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/wsdl:port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/wsdl:service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/wsdl:definitions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Date Placeholder 3"/>
          <p:cNvSpPr/>
          <p:nvPr/>
        </p:nvSpPr>
        <p:spPr>
          <a:xfrm>
            <a:off x="533520" y="6324480"/>
            <a:ext cx="1218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ter 2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7" name="Slide Number Placeholder 4"/>
          <p:cNvSpPr/>
          <p:nvPr/>
        </p:nvSpPr>
        <p:spPr>
          <a:xfrm>
            <a:off x="7543800" y="632448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25C51-36BD-49D1-A57E-F72EC005DCB2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8" name="Footer Placeholder 5"/>
          <p:cNvSpPr/>
          <p:nvPr/>
        </p:nvSpPr>
        <p:spPr>
          <a:xfrm>
            <a:off x="1752480" y="632448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ahoma"/>
              </a:rPr>
              <a:t>Service-Oriented Computing: Semantics, Processes, Agents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- Munindar Singh and Michael Huh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380520" y="1218960"/>
            <a:ext cx="2125800" cy="23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SDL Data Mode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730" name="Object 3"/>
          <p:cNvGraphicFramePr/>
          <p:nvPr/>
        </p:nvGraphicFramePr>
        <p:xfrm>
          <a:off x="2133720" y="152280"/>
          <a:ext cx="6384960" cy="640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152280"/>
                    <a:ext cx="6384960" cy="640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Date Placeholder 3"/>
          <p:cNvSpPr/>
          <p:nvPr/>
        </p:nvSpPr>
        <p:spPr>
          <a:xfrm>
            <a:off x="533520" y="6324480"/>
            <a:ext cx="1218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ter 2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3" name="Slide Number Placeholder 4"/>
          <p:cNvSpPr/>
          <p:nvPr/>
        </p:nvSpPr>
        <p:spPr>
          <a:xfrm>
            <a:off x="7543800" y="632448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396C4-76BB-4CFB-B5AB-F4E4B1BFF530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4" name="Footer Placeholder 5"/>
          <p:cNvSpPr/>
          <p:nvPr/>
        </p:nvSpPr>
        <p:spPr>
          <a:xfrm>
            <a:off x="1752480" y="632448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ahoma"/>
              </a:rPr>
              <a:t>Service-Oriented Computing: Semantics, Processes, Agents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- Munindar Singh and Michael Huh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rectory Servic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discovery: enable applications, agents, Web service providers, Web service requestors, people, objects, and procedures to locate each 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te pages – entries found by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llow pages – entries found by characteristics and capab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asic directory might be a simple database (passive) or a broker/facilitator (active, that provides alerts and recruits participant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DDI – both white pages and yellow pages, but pass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Date Placeholder 3"/>
          <p:cNvSpPr/>
          <p:nvPr/>
        </p:nvSpPr>
        <p:spPr>
          <a:xfrm>
            <a:off x="533520" y="6324480"/>
            <a:ext cx="1218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ter 2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8" name="Slide Number Placeholder 4"/>
          <p:cNvSpPr/>
          <p:nvPr/>
        </p:nvSpPr>
        <p:spPr>
          <a:xfrm>
            <a:off x="7543800" y="632448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9A98D-E416-4ABC-BD2A-8CF06BC869C3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9" name="Footer Placeholder 5"/>
          <p:cNvSpPr/>
          <p:nvPr/>
        </p:nvSpPr>
        <p:spPr>
          <a:xfrm>
            <a:off x="1752480" y="632448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ahoma"/>
              </a:rPr>
              <a:t>Service-Oriented Computing: Semantics, Processes, Agents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- Munindar Singh and Michael Huh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1209240" y="152280"/>
            <a:ext cx="539604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UDDI: Universal Description, Discovery, and Integr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DDI is a Web service that is based on SOAP and XM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DDI regist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tModels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echnical descriptions of a service’s behavi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usinessEntities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escribes the specifications of multiple tMod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Date Placeholder 3"/>
          <p:cNvSpPr/>
          <p:nvPr/>
        </p:nvSpPr>
        <p:spPr>
          <a:xfrm>
            <a:off x="533520" y="6324480"/>
            <a:ext cx="1218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ter 2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3" name="Slide Number Placeholder 4"/>
          <p:cNvSpPr/>
          <p:nvPr/>
        </p:nvSpPr>
        <p:spPr>
          <a:xfrm>
            <a:off x="7543800" y="632448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7B88E-F95D-4894-A6D5-AC8DAEC360AD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4" name="Footer Placeholder 5"/>
          <p:cNvSpPr/>
          <p:nvPr/>
        </p:nvSpPr>
        <p:spPr>
          <a:xfrm>
            <a:off x="1752480" y="632448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ahoma"/>
              </a:rPr>
              <a:t>Service-Oriented Computing: Semantics, Processes, Agents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- Munindar Singh and Michael Huh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Yellow, Green, and White Pages in UDDI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746" name="Object 3"/>
          <p:cNvGraphicFramePr/>
          <p:nvPr/>
        </p:nvGraphicFramePr>
        <p:xfrm>
          <a:off x="685800" y="1511280"/>
          <a:ext cx="7848720" cy="4737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511280"/>
                    <a:ext cx="7848720" cy="473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8" name="Object 3"/>
          <p:cNvGraphicFramePr/>
          <p:nvPr/>
        </p:nvGraphicFramePr>
        <p:xfrm>
          <a:off x="304920" y="108000"/>
          <a:ext cx="8678880" cy="639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08000"/>
                    <a:ext cx="8678880" cy="639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0" name="Date Placeholder 3"/>
          <p:cNvSpPr/>
          <p:nvPr/>
        </p:nvSpPr>
        <p:spPr>
          <a:xfrm>
            <a:off x="533520" y="6324480"/>
            <a:ext cx="1218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ter 2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1" name="Slide Number Placeholder 4"/>
          <p:cNvSpPr/>
          <p:nvPr/>
        </p:nvSpPr>
        <p:spPr>
          <a:xfrm>
            <a:off x="7543800" y="632448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E0971-FCCE-40C1-A81E-DAFCA1D606E0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2" name="Footer Placeholder 5"/>
          <p:cNvSpPr/>
          <p:nvPr/>
        </p:nvSpPr>
        <p:spPr>
          <a:xfrm>
            <a:off x="1752480" y="632448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ahoma"/>
              </a:rPr>
              <a:t>Service-Oriented Computing: Semantics, Processes, Agents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- Munindar Singh and Michael Huh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638320" y="5105160"/>
            <a:ext cx="3048120" cy="1401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ata Model for UDDI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businessEntity data structure: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5" name=""/>
          <p:cNvSpPr txBox="1"/>
          <p:nvPr/>
        </p:nvSpPr>
        <p:spPr>
          <a:xfrm>
            <a:off x="410760" y="1142640"/>
            <a:ext cx="8574120" cy="47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businessEntity businessKey="uuid:C0E6D5A8-C446-4f01-99DA-70E212685A40"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="http://www.ibm.com"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uthorizedName="John Doe"&gt;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name&gt;Acme Company&lt;/name&gt;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description&gt;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 create cool Web services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/description&gt;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contacts&gt;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contact useType="general info"&gt;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description&gt;General Information&lt;/description&gt;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personName&gt;John Doe&lt;/personName&gt;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phone&gt;(123) 123-1234&lt;/phone&gt;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email&gt;jdoe@acme.com&lt;/email&gt; &lt;/contact&gt; &lt;/contacts&gt;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businessServices&gt;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.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/businessServices&gt;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6" name="Slide Number Placeholder 4"/>
          <p:cNvSpPr/>
          <p:nvPr/>
        </p:nvSpPr>
        <p:spPr>
          <a:xfrm>
            <a:off x="7543800" y="632448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0BF82-F43E-4E9A-8102-F473C2EF1E4D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8" name=""/>
          <p:cNvSpPr txBox="1"/>
          <p:nvPr/>
        </p:nvSpPr>
        <p:spPr>
          <a:xfrm>
            <a:off x="1182600" y="1371240"/>
            <a:ext cx="7772400" cy="47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identifierBag&gt;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keyedReference tModelKey="UUID:8609C81E-EE1F-4D5A-B202-3EB13AD01823" name="D-U-N-S" value="123456789" /&gt; &lt;/identifierBag&gt;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categoryBag&gt;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keyedReference tModelKey="UUID:C0B9FE13-179F-413D-8A5B-5004DB8E5BB2" name="NAICS" value="111336" /&gt;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/categoryBag&gt;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/businessEntity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9" name="Date Placeholder 3"/>
          <p:cNvSpPr/>
          <p:nvPr/>
        </p:nvSpPr>
        <p:spPr>
          <a:xfrm>
            <a:off x="533520" y="6324480"/>
            <a:ext cx="1218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ter 2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0" name="Slide Number Placeholder 4"/>
          <p:cNvSpPr/>
          <p:nvPr/>
        </p:nvSpPr>
        <p:spPr>
          <a:xfrm>
            <a:off x="7543800" y="632448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FD64A-9F35-448B-BCDE-358E796D8AC0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1" name="Footer Placeholder 5"/>
          <p:cNvSpPr/>
          <p:nvPr/>
        </p:nvSpPr>
        <p:spPr>
          <a:xfrm>
            <a:off x="1752480" y="632448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ahoma"/>
              </a:rPr>
              <a:t>Service-Oriented Computing: Semantics, Processes, Agents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- Munindar Singh and Michael Huh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sinessService data stru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3" name=""/>
          <p:cNvSpPr txBox="1"/>
          <p:nvPr/>
        </p:nvSpPr>
        <p:spPr>
          <a:xfrm>
            <a:off x="1182600" y="1371240"/>
            <a:ext cx="7772400" cy="47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businessService serviceKey="uuid:D6F1B765-BDB3-4837-828D-8284301E5A2A"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usinessKey="uuid:C0E6D5A8-C446-4f01-99DA-70E212685A40"&gt; &lt;name&gt;Hello World Web Service&lt;/name&gt;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description&gt;A friendly Web service&lt;/description&gt;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bindingTemplates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.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/bindingTemplates&gt;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/businessService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4" name="Date Placeholder 3"/>
          <p:cNvSpPr/>
          <p:nvPr/>
        </p:nvSpPr>
        <p:spPr>
          <a:xfrm>
            <a:off x="533520" y="6324480"/>
            <a:ext cx="1218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ter 2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5" name="Slide Number Placeholder 4"/>
          <p:cNvSpPr/>
          <p:nvPr/>
        </p:nvSpPr>
        <p:spPr>
          <a:xfrm>
            <a:off x="7543800" y="632448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66E12-9554-4508-B432-D9D516572F5C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6" name="Footer Placeholder 5"/>
          <p:cNvSpPr/>
          <p:nvPr/>
        </p:nvSpPr>
        <p:spPr>
          <a:xfrm>
            <a:off x="1752480" y="632448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ahoma"/>
              </a:rPr>
              <a:t>Service-Oriented Computing: Semantics, Processes, Agents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- Munindar Singh and Michael Huh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Date Placeholder 3"/>
          <p:cNvSpPr/>
          <p:nvPr/>
        </p:nvSpPr>
        <p:spPr>
          <a:xfrm>
            <a:off x="533520" y="6324480"/>
            <a:ext cx="1218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ter 2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Slide Number Placeholder 4"/>
          <p:cNvSpPr/>
          <p:nvPr/>
        </p:nvSpPr>
        <p:spPr>
          <a:xfrm>
            <a:off x="7543800" y="632448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38819-32FD-406D-AD3D-51C93BA56F88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Footer Placeholder 5"/>
          <p:cNvSpPr/>
          <p:nvPr/>
        </p:nvSpPr>
        <p:spPr>
          <a:xfrm>
            <a:off x="1752480" y="632448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ahoma"/>
              </a:rPr>
              <a:t>Service-Oriented Computing: Semantics, Processes, Agents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- Munindar Singh and Michael Huh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ndards for Web Servic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601" name="Object 3"/>
          <p:cNvGraphicFramePr/>
          <p:nvPr/>
        </p:nvGraphicFramePr>
        <p:xfrm>
          <a:off x="577800" y="1555920"/>
          <a:ext cx="8566200" cy="4443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7800" y="1555920"/>
                    <a:ext cx="8566200" cy="444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indingTemplat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8" name="Date Placeholder 3"/>
          <p:cNvSpPr/>
          <p:nvPr/>
        </p:nvSpPr>
        <p:spPr>
          <a:xfrm>
            <a:off x="533520" y="6324480"/>
            <a:ext cx="1218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ter 2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9" name="Slide Number Placeholder 4"/>
          <p:cNvSpPr/>
          <p:nvPr/>
        </p:nvSpPr>
        <p:spPr>
          <a:xfrm>
            <a:off x="7543800" y="632448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40497-3FFC-4D69-808C-BE012764F1A6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0" name="Footer Placeholder 5"/>
          <p:cNvSpPr/>
          <p:nvPr/>
        </p:nvSpPr>
        <p:spPr>
          <a:xfrm>
            <a:off x="1752480" y="632448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ahoma"/>
              </a:rPr>
              <a:t>Service-Oriented Computing: Semantics, Processes, Agents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- Munindar Singh and Michael Huh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71" name="Picture 2" descr=""/>
          <p:cNvPicPr/>
          <p:nvPr/>
        </p:nvPicPr>
        <p:blipFill>
          <a:blip r:embed="rId1"/>
          <a:stretch/>
        </p:blipFill>
        <p:spPr>
          <a:xfrm>
            <a:off x="617400" y="914400"/>
            <a:ext cx="842040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Date Placeholder 3"/>
          <p:cNvSpPr/>
          <p:nvPr/>
        </p:nvSpPr>
        <p:spPr>
          <a:xfrm>
            <a:off x="533520" y="6324480"/>
            <a:ext cx="1218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ter 2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3" name="Slide Number Placeholder 4"/>
          <p:cNvSpPr/>
          <p:nvPr/>
        </p:nvSpPr>
        <p:spPr>
          <a:xfrm>
            <a:off x="7543800" y="632448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CB9D5-D33D-4A97-BED5-39D23B3E91DD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4" name="Footer Placeholder 5"/>
          <p:cNvSpPr/>
          <p:nvPr/>
        </p:nvSpPr>
        <p:spPr>
          <a:xfrm>
            <a:off x="1752480" y="632448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ahoma"/>
              </a:rPr>
              <a:t>Service-Oriented Computing: Semantics, Processes, Agents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- Munindar Singh and Michael Huh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819160" y="-82440"/>
            <a:ext cx="3881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SDL </a:t>
            </a:r>
            <a:r>
              <a:rPr b="0" lang="en-US" sz="3600" spc="-1" strike="noStrike">
                <a:solidFill>
                  <a:srgbClr val="333399"/>
                </a:solidFill>
                <a:latin typeface="Wingdings"/>
                <a:ea typeface="Wingdings"/>
              </a:rPr>
              <a:t>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UDDI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776" name="Object 3"/>
          <p:cNvGraphicFramePr/>
          <p:nvPr/>
        </p:nvGraphicFramePr>
        <p:xfrm>
          <a:off x="138240" y="755640"/>
          <a:ext cx="8932680" cy="556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8240" y="755640"/>
                    <a:ext cx="8932680" cy="556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Date Placeholder 3"/>
          <p:cNvSpPr/>
          <p:nvPr/>
        </p:nvSpPr>
        <p:spPr>
          <a:xfrm>
            <a:off x="533520" y="6324480"/>
            <a:ext cx="1218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ter 2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9" name="Slide Number Placeholder 4"/>
          <p:cNvSpPr/>
          <p:nvPr/>
        </p:nvSpPr>
        <p:spPr>
          <a:xfrm>
            <a:off x="7543800" y="632448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40705-3B58-47A1-8F03-625D5C591A8D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0" name="Footer Placeholder 5"/>
          <p:cNvSpPr/>
          <p:nvPr/>
        </p:nvSpPr>
        <p:spPr>
          <a:xfrm>
            <a:off x="1752480" y="632448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ahoma"/>
              </a:rPr>
              <a:t>Service-Oriented Computing: Semantics, Processes, Agents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- Munindar Singh and Michael Huh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hapter 2 Summar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1182600" y="1371240"/>
            <a:ext cx="7772400" cy="47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main triad of Web services standard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ng together well-known id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AP: object access and messag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SDL: based on CORBA ID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DDI: based on directo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necessary functionality for inter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e complicated in their detai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ant for tool vendors rather than programm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ingly hidden by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O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4" name=""/>
          <p:cNvSpPr txBox="1"/>
          <p:nvPr/>
        </p:nvSpPr>
        <p:spPr>
          <a:xfrm>
            <a:off x="685800" y="1371240"/>
            <a:ext cx="8269200" cy="47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AP is acronym for Simple Object Access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SOAP is a communication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Tahoma"/>
              </a:rPr>
              <a:t>SOAP is designed to communicate via Interne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Tahoma"/>
              </a:rPr>
              <a:t>SOAP can extend HTTP for XML messag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AP provides data transport for Web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SOAP can exchange complete documents or call a remote proced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Tahoma"/>
              </a:rPr>
              <a:t>SOAP can be used for broadcasting a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Tahoma"/>
              </a:rPr>
              <a:t>SOAP is platform and language in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AP is the XML way of defining what information gets sent and h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Date Placeholder 3"/>
          <p:cNvSpPr/>
          <p:nvPr/>
        </p:nvSpPr>
        <p:spPr>
          <a:xfrm>
            <a:off x="533520" y="6324480"/>
            <a:ext cx="1218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ter 2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Slide Number Placeholder 4"/>
          <p:cNvSpPr/>
          <p:nvPr/>
        </p:nvSpPr>
        <p:spPr>
          <a:xfrm>
            <a:off x="7543800" y="632448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06F1A-3D56-4951-A9C6-ECEE8D5F4ADE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Footer Placeholder 5"/>
          <p:cNvSpPr/>
          <p:nvPr/>
        </p:nvSpPr>
        <p:spPr>
          <a:xfrm>
            <a:off x="1752480" y="632448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ahoma"/>
              </a:rPr>
              <a:t>Service-Oriented Computing: Semantics, Processes, Agents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- Munindar Singh and Michael Huh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Date Placeholder 3"/>
          <p:cNvSpPr/>
          <p:nvPr/>
        </p:nvSpPr>
        <p:spPr>
          <a:xfrm>
            <a:off x="533520" y="6324480"/>
            <a:ext cx="1218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ter 2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Slide Number Placeholder 4"/>
          <p:cNvSpPr/>
          <p:nvPr/>
        </p:nvSpPr>
        <p:spPr>
          <a:xfrm>
            <a:off x="7543800" y="632448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CD98F-64F0-4FAA-8E76-5D5D3D0B3F60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Footer Placeholder 5"/>
          <p:cNvSpPr/>
          <p:nvPr/>
        </p:nvSpPr>
        <p:spPr>
          <a:xfrm>
            <a:off x="1752480" y="632448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ahoma"/>
              </a:rPr>
              <a:t>Service-Oriented Computing: Semantics, Processes, Agents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- Munindar Singh and Michael Huh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92504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SOAP (Simple Object Access Protocol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exchange messages via HTTP, SMTP, and SIP (Session Initiation Protocol for Internet telephon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f0"/>
                </a:solidFill>
                <a:latin typeface="Tahoma"/>
              </a:rPr>
              <a:t>Originally designed for remote-procedure calls (RP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Works through firewalls on port 8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Tahoma"/>
              </a:rPr>
              <a:t>Character-based, so easy to encrypt/decrypt and thus easy to sec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ff"/>
                </a:solidFill>
                <a:latin typeface="Tahoma"/>
              </a:rPr>
              <a:t>Inefficient due to character, not binary, data and large head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describe bidirectional or n-party inter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Date Placeholder 3"/>
          <p:cNvSpPr/>
          <p:nvPr/>
        </p:nvSpPr>
        <p:spPr>
          <a:xfrm>
            <a:off x="533520" y="6324480"/>
            <a:ext cx="1218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ter 2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Slide Number Placeholder 4"/>
          <p:cNvSpPr/>
          <p:nvPr/>
        </p:nvSpPr>
        <p:spPr>
          <a:xfrm>
            <a:off x="7543800" y="632448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77AA8-5490-4521-A51C-F65B353BFB07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5" name="Footer Placeholder 5"/>
          <p:cNvSpPr/>
          <p:nvPr/>
        </p:nvSpPr>
        <p:spPr>
          <a:xfrm>
            <a:off x="1752480" y="632448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ahoma"/>
              </a:rPr>
              <a:t>Service-Oriented Computing: Semantics, Processes, Agents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- Munindar Singh and Michael Huh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rkup Histor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e, e.g., CS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 hoc t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GML (Standard Generalized Markup L): complex, few reliable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ML (HyperText ML): simple, unprincipled, mixes structure and disp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ML (eXtensible ML): simple, yet extensible subset of SGML to capture new vocabul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chine proce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ll, comprehensible (easier debugging), though verbose and arca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Date Placeholder 3"/>
          <p:cNvSpPr/>
          <p:nvPr/>
        </p:nvSpPr>
        <p:spPr>
          <a:xfrm>
            <a:off x="533520" y="6324480"/>
            <a:ext cx="1218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ter 2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9" name="Slide Number Placeholder 4"/>
          <p:cNvSpPr/>
          <p:nvPr/>
        </p:nvSpPr>
        <p:spPr>
          <a:xfrm>
            <a:off x="7543800" y="632448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AE076-67D1-4422-8364-A2BB1651B817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0" name="Footer Placeholder 5"/>
          <p:cNvSpPr/>
          <p:nvPr/>
        </p:nvSpPr>
        <p:spPr>
          <a:xfrm>
            <a:off x="1752480" y="632448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ahoma"/>
              </a:rPr>
              <a:t>Service-Oriented Computing: Semantics, Processes, Agents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- Munindar Singh and Michael Huh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XML Basics and Namespac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?xml version</a:t>
            </a:r>
            <a:r>
              <a:rPr b="0" lang="en-US" sz="2000" spc="-1" strike="noStrike">
                <a:solidFill>
                  <a:srgbClr val="c00000"/>
                </a:solidFill>
                <a:latin typeface="Tahoma"/>
              </a:rPr>
              <a:t>="1.0"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?&gt; </a:t>
            </a:r>
            <a:r>
              <a:rPr b="0" lang="en-US" sz="2000" spc="-1" strike="noStrike">
                <a:solidFill>
                  <a:srgbClr val="00ab7e"/>
                </a:solidFill>
                <a:latin typeface="Tahoma"/>
              </a:rPr>
              <a:t>&lt;!– not part of the document per se --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arbitrary:toptag xmlns=</a:t>
            </a:r>
            <a:r>
              <a:rPr b="0" lang="en-US" sz="2000" spc="-1" strike="noStrike">
                <a:solidFill>
                  <a:srgbClr val="c00000"/>
                </a:solidFill>
                <a:latin typeface="Tahoma"/>
              </a:rPr>
              <a:t>"http://one.default.namespace/if-needed"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mlns:arbitrary=</a:t>
            </a:r>
            <a:r>
              <a:rPr b="0" lang="en-US" sz="2000" spc="-1" strike="noStrike">
                <a:solidFill>
                  <a:srgbClr val="c00000"/>
                </a:solidFill>
                <a:latin typeface="Tahoma"/>
              </a:rPr>
              <a:t>"http://wherever.it.might.be/arbit-ns"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     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mlns:random=</a:t>
            </a:r>
            <a:r>
              <a:rPr b="0" lang="en-US" sz="2000" spc="-1" strike="noStrike">
                <a:solidFill>
                  <a:srgbClr val="c00000"/>
                </a:solidFill>
                <a:latin typeface="Tahoma"/>
              </a:rPr>
              <a:t>"http://another.one/random-ns"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    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arbitrary: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ag attr1=</a:t>
            </a:r>
            <a:r>
              <a:rPr b="0" lang="en-US" sz="2000" spc="-1" strike="noStrike">
                <a:solidFill>
                  <a:srgbClr val="c00000"/>
                </a:solidFill>
                <a:latin typeface="Tahoma"/>
              </a:rPr>
              <a:t>"v1"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ttr2=</a:t>
            </a:r>
            <a:r>
              <a:rPr b="0" lang="en-US" sz="2000" spc="-1" strike="noStrike">
                <a:solidFill>
                  <a:srgbClr val="c00000"/>
                </a:solidFill>
                <a:latin typeface="Tahoma"/>
              </a:rPr>
              <a:t>"v2"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ptional text also known as PC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bitrary: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tag attr1=</a:t>
            </a:r>
            <a:r>
              <a:rPr b="0" lang="en-US" sz="2000" spc="-1" strike="noStrike">
                <a:solidFill>
                  <a:srgbClr val="c00000"/>
                </a:solidFill>
                <a:latin typeface="Tahoma"/>
              </a:rPr>
              <a:t>"v1"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ttr2=</a:t>
            </a:r>
            <a:r>
              <a:rPr b="0" lang="en-US" sz="2000" spc="-1" strike="noStrike">
                <a:solidFill>
                  <a:srgbClr val="c00000"/>
                </a:solidFill>
                <a:latin typeface="Tahoma"/>
              </a:rPr>
              <a:t>"v2"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/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/arbitrary:atag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random:simple_tag/&gt; </a:t>
            </a:r>
            <a:r>
              <a:rPr b="0" lang="en-US" sz="2000" spc="-1" strike="noStrike">
                <a:solidFill>
                  <a:srgbClr val="00ab7e"/>
                </a:solidFill>
                <a:latin typeface="Tahoma"/>
              </a:rPr>
              <a:t>&lt;!– abbreviate start and end --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random:atag attr3=</a:t>
            </a:r>
            <a:r>
              <a:rPr b="0" lang="en-US" sz="2000" spc="-1" strike="noStrike">
                <a:solidFill>
                  <a:srgbClr val="c00000"/>
                </a:solidFill>
                <a:latin typeface="Tahoma"/>
              </a:rPr>
              <a:t>"v3"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/&gt;  </a:t>
            </a:r>
            <a:r>
              <a:rPr b="0" lang="en-US" sz="2000" spc="-1" strike="noStrike">
                <a:solidFill>
                  <a:srgbClr val="00ab7e"/>
                </a:solidFill>
                <a:latin typeface="Tahoma"/>
              </a:rPr>
              <a:t>&lt;!– compare arbitrary:atag --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/arbitrary:toptag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Date Placeholder 3"/>
          <p:cNvSpPr/>
          <p:nvPr/>
        </p:nvSpPr>
        <p:spPr>
          <a:xfrm>
            <a:off x="533520" y="6324480"/>
            <a:ext cx="1218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ter 2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Slide Number Placeholder 4"/>
          <p:cNvSpPr/>
          <p:nvPr/>
        </p:nvSpPr>
        <p:spPr>
          <a:xfrm>
            <a:off x="7543800" y="632448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A2A2C-BE40-47EC-AF84-944FE64BA7A2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Footer Placeholder 5"/>
          <p:cNvSpPr/>
          <p:nvPr/>
        </p:nvSpPr>
        <p:spPr>
          <a:xfrm>
            <a:off x="1752480" y="632448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ahoma"/>
              </a:rPr>
              <a:t>Service-Oriented Computing: Semantics, Processes, Agents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- Munindar Singh and Michael Huh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XML Schem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ammar (data definition language) for specifying valid docu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same syntax as regular XML documents: verbose and difficult to r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local scoping of subelement n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orporates namesp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imitive (built-in): string, integer, float, date, …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mpleType constructors: list, un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trictions: intervals, lengths, enumerations, regex patterns,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exible ordering of el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y and referential integrity constra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5-28T16:29:18Z</dcterms:created>
  <dc:creator>Dr. Munindar P. Singh &amp; Prof. Michael N. Huhns</dc:creator>
  <dc:description/>
  <dc:language>en-US</dc:language>
  <cp:lastModifiedBy>Dr. Shakeel Ahmed Khoja</cp:lastModifiedBy>
  <cp:lastPrinted>1999-08-23T19:58:05Z</cp:lastPrinted>
  <dcterms:modified xsi:type="dcterms:W3CDTF">2011-03-02T06:10:57Z</dcterms:modified>
  <cp:revision>397</cp:revision>
  <dc:subject>Service-Oriented Computing</dc:subject>
  <dc:title>Chapter 2: Basic Standards for Web Services</dc:title>
</cp:coreProperties>
</file>